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1.png" ContentType="image/png"/>
  <Override PartName="/ppt/media/image38.png" ContentType="image/png"/>
  <Override PartName="/ppt/media/image37.png" ContentType="image/png"/>
  <Override PartName="/ppt/media/image30.png" ContentType="image/png"/>
  <Override PartName="/ppt/media/image13.png" ContentType="image/png"/>
  <Override PartName="/ppt/media/image1.png" ContentType="image/png"/>
  <Override PartName="/ppt/media/image40.png" ContentType="image/png"/>
  <Override PartName="/ppt/media/image8.wmf" ContentType="image/x-wmf"/>
  <Override PartName="/ppt/media/image49.png" ContentType="image/png"/>
  <Override PartName="/ppt/media/image12.png" ContentType="image/png"/>
  <Override PartName="/ppt/media/image19.png" ContentType="image/png"/>
  <Override PartName="/ppt/media/image61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34.png" ContentType="image/png"/>
  <Override PartName="/ppt/media/image7.jpeg" ContentType="image/jpeg"/>
  <Override PartName="/ppt/media/image4.png" ContentType="image/png"/>
  <Override PartName="/ppt/media/image16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36.png" ContentType="image/png"/>
  <Override PartName="/ppt/media/image18.png" ContentType="image/png"/>
  <Override PartName="/ppt/media/image42.jpeg" ContentType="image/jpeg"/>
  <Override PartName="/ppt/media/image6.png" ContentType="image/png"/>
  <Override PartName="/ppt/media/image20.png" ContentType="image/png"/>
  <Override PartName="/ppt/media/image57.png" ContentType="image/png"/>
  <Override PartName="/ppt/media/image11.png" ContentType="image/png"/>
  <Override PartName="/ppt/media/image48.png" ContentType="image/png"/>
  <Override PartName="/ppt/media/image9.png" ContentType="image/png"/>
  <Override PartName="/ppt/media/image3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645B-8FF6-4337-B06B-BFE1F2F15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D278-A826-4C38-A3A3-3A4ED86B9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0746-4005-423E-AFF5-C478AC727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A84C-30B9-4208-BD13-1E19DFF59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D60F-4FA6-4718-A997-5F5CA51EC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24A9-FB33-45E5-86E7-F2A4A835C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EEAA-43ED-45F9-A291-5F6443E8C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C4D9-6E9B-45E0-A5AD-20864A5C6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D28F-11AE-43EB-866C-64EF34F44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21BC-B265-40B8-A686-CF948ED6D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BE5E-016D-4212-9BC7-A66A61149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4D0F-D8E8-40CB-86B9-129EA188C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4FF0-5BB6-4FA7-890D-7B07E8951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EBBE-7B39-4DDC-A73A-B9CDEB73A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44FA-3BB7-4588-8C52-941151EC0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5FDA-39DB-4523-A20C-86D5154F3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FCA1-98D0-4369-88A0-EBBA20E41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2560-C4D2-4CCB-8D0A-322FA332F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BCD8-471C-4D96-A3BA-7A25649E0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36F6-6263-4DFF-B220-9F286C004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75C1-1769-4071-9C74-CCAB0E61E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2517-D128-47A3-81A8-0A99C79B0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D5A9-9C6C-4D84-A200-1E2201787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839C-7481-46E5-A694-A7431A16A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A63A-D259-4E2F-8FDF-1774B2E79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1224-40DE-4EE7-84A1-B4BAAECC7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E7BC-97A3-4050-94B7-C6356E21F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MY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5EC3-C346-49F0-A998-AA8A76354FE0}" type="slidenum">
              <a:rPr b="0" lang="en-MY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1C6E-F0FF-4766-9BD5-D7AE175A0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B350CC3-FE0C-4A30-9822-27175DC1BA3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Slide Number Placeholder 3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72A342D-5678-43EC-8E42-35077901943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2427-137B-4493-9FA1-DF907548A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047F-76AF-45F2-BFFD-170438AE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B4CB-B7E0-484B-9C51-53EE4DC75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3775-EAF4-4F6C-BAA6-9B47B4CC9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0EED3-0729-42F9-B7C4-4062AECA5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28EE-895E-4FB9-9033-27D1A54F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CDDE-5F12-4BAA-A489-85EC2A75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6C81-6189-46C9-862C-AB358E24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EFB6-9177-44C3-B432-87E23C3F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53AA-3A93-44A4-B915-3EFAEC54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F137-09B3-4ED9-8B58-A24DB509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5B0C-CCF3-40E8-81A5-28A6CBFA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C212-75E1-4F35-83EA-C96E006E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FBA7D-6081-4473-AA19-C8F4B04C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1E39-C0B4-475F-BE3E-5B6BDAA9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FC6C-BED0-4352-A98C-DDED32CF4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1168-6748-4052-A7AF-198DD72E3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F660-A89A-4F25-87CC-781332E9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C905-9F36-4419-8808-067AC98B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6153-C7D8-4B52-8076-47BA49AA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45EB-E214-41E9-B875-93BF172A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CA55-84DA-4947-A9EB-21FA5853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0959-4568-4EAB-BC1F-D3F68C73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6C6A-2378-45A7-A259-F02796C6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6D7D-7324-4C61-82BC-9625EB44729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65AE-B5C7-49D0-AF6F-F76AD0652B4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2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image" Target="../media/image71.png"/><Relationship Id="rId8" Type="http://schemas.openxmlformats.org/officeDocument/2006/relationships/image" Target="../media/image72.png"/><Relationship Id="rId9" Type="http://schemas.openxmlformats.org/officeDocument/2006/relationships/image" Target="../media/image73.png"/><Relationship Id="rId10" Type="http://schemas.openxmlformats.org/officeDocument/2006/relationships/image" Target="../media/image74.png"/><Relationship Id="rId11" Type="http://schemas.openxmlformats.org/officeDocument/2006/relationships/image" Target="../media/image75.png"/><Relationship Id="rId12" Type="http://schemas.openxmlformats.org/officeDocument/2006/relationships/image" Target="../media/image76.png"/><Relationship Id="rId13" Type="http://schemas.openxmlformats.org/officeDocument/2006/relationships/image" Target="../media/image77.png"/><Relationship Id="rId14" Type="http://schemas.openxmlformats.org/officeDocument/2006/relationships/image" Target="../media/image78.png"/><Relationship Id="rId15" Type="http://schemas.openxmlformats.org/officeDocument/2006/relationships/image" Target="../media/image79.png"/><Relationship Id="rId16" Type="http://schemas.openxmlformats.org/officeDocument/2006/relationships/image" Target="../media/image80.pn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3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Rounded Rectangle 17"/>
          <p:cNvGrpSpPr/>
          <p:nvPr/>
        </p:nvGrpSpPr>
        <p:grpSpPr>
          <a:xfrm>
            <a:off x="201600" y="66600"/>
            <a:ext cx="1346040" cy="1244520"/>
            <a:chOff x="201600" y="66600"/>
            <a:chExt cx="1346040" cy="1244520"/>
          </a:xfrm>
        </p:grpSpPr>
        <p:pic>
          <p:nvPicPr>
            <p:cNvPr id="158" name="Rounded Rectangle 17" descr=""/>
            <p:cNvPicPr/>
            <p:nvPr/>
          </p:nvPicPr>
          <p:blipFill>
            <a:blip r:embed="rId1"/>
            <a:stretch/>
          </p:blipFill>
          <p:spPr>
            <a:xfrm>
              <a:off x="201600" y="66600"/>
              <a:ext cx="13460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274680" y="135000"/>
              <a:ext cx="1203120" cy="11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Rounded Rectangle 47"/>
          <p:cNvGrpSpPr/>
          <p:nvPr/>
        </p:nvGrpSpPr>
        <p:grpSpPr>
          <a:xfrm>
            <a:off x="244440" y="115920"/>
            <a:ext cx="1266840" cy="1176480"/>
            <a:chOff x="244440" y="115920"/>
            <a:chExt cx="1266840" cy="1176480"/>
          </a:xfrm>
        </p:grpSpPr>
        <p:pic>
          <p:nvPicPr>
            <p:cNvPr id="161" name="Rounded Rectangle 47" descr=""/>
            <p:cNvPicPr/>
            <p:nvPr/>
          </p:nvPicPr>
          <p:blipFill>
            <a:blip r:embed="rId2"/>
            <a:stretch/>
          </p:blipFill>
          <p:spPr>
            <a:xfrm>
              <a:off x="244440" y="115920"/>
              <a:ext cx="126684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357120" y="204840"/>
              <a:ext cx="104472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Flowchart: Connector 19"/>
          <p:cNvGrpSpPr/>
          <p:nvPr/>
        </p:nvGrpSpPr>
        <p:grpSpPr>
          <a:xfrm>
            <a:off x="476280" y="255600"/>
            <a:ext cx="571320" cy="824040"/>
            <a:chOff x="476280" y="255600"/>
            <a:chExt cx="571320" cy="824040"/>
          </a:xfrm>
        </p:grpSpPr>
        <p:pic>
          <p:nvPicPr>
            <p:cNvPr id="164" name="Flowchart: Connector 19" descr=""/>
            <p:cNvPicPr/>
            <p:nvPr/>
          </p:nvPicPr>
          <p:blipFill>
            <a:blip r:embed="rId3"/>
            <a:stretch/>
          </p:blipFill>
          <p:spPr>
            <a:xfrm>
              <a:off x="476280" y="255600"/>
              <a:ext cx="57132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600120" y="396720"/>
              <a:ext cx="3236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Flowchart: Connector 20"/>
          <p:cNvGrpSpPr/>
          <p:nvPr/>
        </p:nvGrpSpPr>
        <p:grpSpPr>
          <a:xfrm>
            <a:off x="701640" y="255600"/>
            <a:ext cx="573120" cy="824040"/>
            <a:chOff x="701640" y="255600"/>
            <a:chExt cx="573120" cy="824040"/>
          </a:xfrm>
        </p:grpSpPr>
        <p:pic>
          <p:nvPicPr>
            <p:cNvPr id="167" name="Flowchart: Connector 20" descr=""/>
            <p:cNvPicPr/>
            <p:nvPr/>
          </p:nvPicPr>
          <p:blipFill>
            <a:blip r:embed="rId4"/>
            <a:stretch/>
          </p:blipFill>
          <p:spPr>
            <a:xfrm>
              <a:off x="701640" y="255600"/>
              <a:ext cx="57312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828720" y="396720"/>
              <a:ext cx="3236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itle 1"/>
          <p:cNvSpPr/>
          <p:nvPr/>
        </p:nvSpPr>
        <p:spPr>
          <a:xfrm>
            <a:off x="1143000" y="6477120"/>
            <a:ext cx="7010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©2011   LEMBAGA PEPERIKSAAN KEMENTERIAN PELAJARAN MALAYS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8"/>
          <p:cNvSpPr/>
          <p:nvPr/>
        </p:nvSpPr>
        <p:spPr>
          <a:xfrm flipH="1">
            <a:off x="1370160" y="1752480"/>
            <a:ext cx="2880" cy="121932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9"/>
          <p:cNvSpPr/>
          <p:nvPr/>
        </p:nvSpPr>
        <p:spPr>
          <a:xfrm flipH="1">
            <a:off x="837720" y="1370160"/>
            <a:ext cx="1800" cy="130320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10"/>
          <p:cNvSpPr/>
          <p:nvPr/>
        </p:nvSpPr>
        <p:spPr>
          <a:xfrm flipH="1">
            <a:off x="379080" y="1773360"/>
            <a:ext cx="3240" cy="11984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11"/>
          <p:cNvSpPr/>
          <p:nvPr/>
        </p:nvSpPr>
        <p:spPr>
          <a:xfrm flipH="1">
            <a:off x="607680" y="1581120"/>
            <a:ext cx="3240" cy="116208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12"/>
          <p:cNvSpPr/>
          <p:nvPr/>
        </p:nvSpPr>
        <p:spPr>
          <a:xfrm>
            <a:off x="1104840" y="1522440"/>
            <a:ext cx="0" cy="1281240"/>
          </a:xfrm>
          <a:prstGeom prst="line">
            <a:avLst/>
          </a:prstGeom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5"/>
          <p:cNvSpPr/>
          <p:nvPr/>
        </p:nvSpPr>
        <p:spPr>
          <a:xfrm flipH="1">
            <a:off x="304920" y="2360520"/>
            <a:ext cx="1295280" cy="0"/>
          </a:xfrm>
          <a:prstGeom prst="line">
            <a:avLst/>
          </a:prstGeom>
          <a:ln w="316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Diagram 22" descr=""/>
          <p:cNvPicPr/>
          <p:nvPr/>
        </p:nvPicPr>
        <p:blipFill>
          <a:blip r:embed="rId5"/>
          <a:stretch/>
        </p:blipFill>
        <p:spPr>
          <a:xfrm>
            <a:off x="2298600" y="268200"/>
            <a:ext cx="5302440" cy="944640"/>
          </a:xfrm>
          <a:prstGeom prst="rect">
            <a:avLst/>
          </a:prstGeom>
          <a:ln w="0">
            <a:noFill/>
          </a:ln>
        </p:spPr>
      </p:pic>
      <p:pic>
        <p:nvPicPr>
          <p:cNvPr id="177" name="Diagram 24" descr=""/>
          <p:cNvPicPr/>
          <p:nvPr/>
        </p:nvPicPr>
        <p:blipFill>
          <a:blip r:embed="rId6"/>
          <a:stretch/>
        </p:blipFill>
        <p:spPr>
          <a:xfrm>
            <a:off x="1463760" y="1962000"/>
            <a:ext cx="6669000" cy="31402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25"/>
          <p:cNvSpPr/>
          <p:nvPr/>
        </p:nvSpPr>
        <p:spPr>
          <a:xfrm>
            <a:off x="457200" y="304920"/>
            <a:ext cx="85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3"/>
          <p:cNvGrpSpPr/>
          <p:nvPr/>
        </p:nvGrpSpPr>
        <p:grpSpPr>
          <a:xfrm>
            <a:off x="457200" y="1295280"/>
            <a:ext cx="8077320" cy="4680000"/>
            <a:chOff x="457200" y="1295280"/>
            <a:chExt cx="8077320" cy="4680000"/>
          </a:xfrm>
        </p:grpSpPr>
        <p:grpSp>
          <p:nvGrpSpPr>
            <p:cNvPr id="337" name="Rounded Rectangle 4"/>
            <p:cNvGrpSpPr/>
            <p:nvPr/>
          </p:nvGrpSpPr>
          <p:grpSpPr>
            <a:xfrm>
              <a:off x="457200" y="1295280"/>
              <a:ext cx="8077320" cy="4680000"/>
              <a:chOff x="457200" y="1295280"/>
              <a:chExt cx="8077320" cy="4680000"/>
            </a:xfrm>
          </p:grpSpPr>
          <p:pic>
            <p:nvPicPr>
              <p:cNvPr id="338" name="Rounded Rectangl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457200" y="1295280"/>
                <a:ext cx="8077320" cy="468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9" name=""/>
              <p:cNvSpPr/>
              <p:nvPr/>
            </p:nvSpPr>
            <p:spPr>
              <a:xfrm>
                <a:off x="742320" y="1551240"/>
                <a:ext cx="7512840" cy="413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Rounded Rectangle 4"/>
            <p:cNvSpPr/>
            <p:nvPr/>
          </p:nvSpPr>
          <p:spPr>
            <a:xfrm>
              <a:off x="742680" y="1551600"/>
              <a:ext cx="7512480" cy="412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2280" rIns="152280" tIns="152280" bIns="152280" anchor="ctr">
              <a:noAutofit/>
            </a:bodyPr>
            <a:p>
              <a:pPr>
                <a:lnSpc>
                  <a:spcPct val="90000"/>
                </a:lnSpc>
                <a:spcAft>
                  <a:spcPts val="1576"/>
                </a:spcAft>
                <a:tabLst>
                  <a:tab algn="l" pos="0"/>
                  <a:tab algn="l" pos="1778040"/>
                  <a:tab algn="l" pos="3556080"/>
                  <a:tab algn="l" pos="5334120"/>
                  <a:tab algn="l" pos="7112160"/>
                  <a:tab algn="l" pos="8889840"/>
                  <a:tab algn="l" pos="10667880"/>
                </a:tabLst>
              </a:pPr>
              <a:r>
                <a:rPr b="0" lang="en-GB" sz="3600" spc="-1" strike="noStrike">
                  <a:solidFill>
                    <a:srgbClr val="ffffff"/>
                  </a:solidFill>
                  <a:latin typeface="Arial"/>
                </a:rPr>
                <a:t>Pentaksiran yang dirancang, dibina dan dilapor oleh Lembaga Peperiksaan tetapi ditadbir, diperiksa dan direkod oleh sekolah.  Pentaksiran Pusat dilaksana dalam bentuk pentaksiran </a:t>
              </a:r>
              <a:r>
                <a:rPr b="1" lang="en-GB" sz="3600" spc="-1" strike="noStrike">
                  <a:solidFill>
                    <a:srgbClr val="ff0000"/>
                  </a:solidFill>
                  <a:latin typeface="Arial"/>
                </a:rPr>
                <a:t>sumatif</a:t>
              </a:r>
              <a:r>
                <a:rPr b="0" lang="en-GB" sz="3600" spc="-1" strike="noStrike">
                  <a:solidFill>
                    <a:srgbClr val="ffffff"/>
                  </a:solidFill>
                  <a:latin typeface="Arial"/>
                </a:rPr>
                <a:t> di hujung semester atau tahun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1" name="Picture 18" descr="kpm2006"/>
          <p:cNvPicPr/>
          <p:nvPr/>
        </p:nvPicPr>
        <p:blipFill>
          <a:blip r:embed="rId2"/>
          <a:stretch/>
        </p:blipFill>
        <p:spPr>
          <a:xfrm>
            <a:off x="8096400" y="5943600"/>
            <a:ext cx="895320" cy="9064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1736640" y="366840"/>
            <a:ext cx="580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PENTAKSIRAN PUS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Oval 2"/>
          <p:cNvSpPr/>
          <p:nvPr/>
        </p:nvSpPr>
        <p:spPr>
          <a:xfrm>
            <a:off x="2590920" y="1762200"/>
            <a:ext cx="4114800" cy="4114800"/>
          </a:xfrm>
          <a:prstGeom prst="ellipse">
            <a:avLst/>
          </a:prstGeom>
          <a:noFill/>
          <a:ln w="76320">
            <a:solidFill>
              <a:srgbClr val="5d4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3429000" y="1170000"/>
            <a:ext cx="28954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ormat &amp; tugasan (LP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"/>
          <p:cNvSpPr/>
          <p:nvPr/>
        </p:nvSpPr>
        <p:spPr>
          <a:xfrm>
            <a:off x="5943600" y="4952880"/>
            <a:ext cx="312408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empoh  1 jangka masa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agi mata pelajara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erpilih dari kumpula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eras dan elektif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6858000" y="3352680"/>
            <a:ext cx="15238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ilaksana di sekola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2819520" y="6089760"/>
            <a:ext cx="35812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itaksir oleh guru mata pelajara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6172200" y="1905120"/>
            <a:ext cx="24382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ugasan berbeza setiap tahu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8"/>
          <p:cNvSpPr/>
          <p:nvPr/>
        </p:nvSpPr>
        <p:spPr>
          <a:xfrm>
            <a:off x="152280" y="1752480"/>
            <a:ext cx="350532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elaporan PP &amp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entaksiran Sekolah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igabu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95"/>
          <p:cNvSpPr/>
          <p:nvPr/>
        </p:nvSpPr>
        <p:spPr>
          <a:xfrm>
            <a:off x="228600" y="4876920"/>
            <a:ext cx="289548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kor berdasarkan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Rubrik pemarkaha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LP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24"/>
          <p:cNvSpPr/>
          <p:nvPr/>
        </p:nvSpPr>
        <p:spPr>
          <a:xfrm>
            <a:off x="380880" y="3313080"/>
            <a:ext cx="244656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emantauan &amp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enyelarasa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agi penjamina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kualiti &amp; standar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55"/>
          <p:cNvGrpSpPr/>
          <p:nvPr/>
        </p:nvGrpSpPr>
        <p:grpSpPr>
          <a:xfrm>
            <a:off x="3433680" y="2523960"/>
            <a:ext cx="2563920" cy="2563920"/>
            <a:chOff x="3433680" y="2523960"/>
            <a:chExt cx="2563920" cy="2563920"/>
          </a:xfrm>
        </p:grpSpPr>
        <p:sp>
          <p:nvSpPr>
            <p:cNvPr id="353" name="Oval 22"/>
            <p:cNvSpPr/>
            <p:nvPr/>
          </p:nvSpPr>
          <p:spPr>
            <a:xfrm>
              <a:off x="3433680" y="252396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" name="Oval 23"/>
            <p:cNvGrpSpPr/>
            <p:nvPr/>
          </p:nvGrpSpPr>
          <p:grpSpPr>
            <a:xfrm>
              <a:off x="3535560" y="2620800"/>
              <a:ext cx="2352600" cy="2359080"/>
              <a:chOff x="3535560" y="2620800"/>
              <a:chExt cx="2352600" cy="2359080"/>
            </a:xfrm>
          </p:grpSpPr>
          <p:pic>
            <p:nvPicPr>
              <p:cNvPr id="355" name="Oval 23" descr=""/>
              <p:cNvPicPr/>
              <p:nvPr/>
            </p:nvPicPr>
            <p:blipFill>
              <a:blip r:embed="rId1"/>
              <a:stretch/>
            </p:blipFill>
            <p:spPr>
              <a:xfrm>
                <a:off x="3535560" y="2620800"/>
                <a:ext cx="2352600" cy="235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>
                <a:off x="3912120" y="3000600"/>
                <a:ext cx="1604880" cy="160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Text Box 38"/>
            <p:cNvGrpSpPr/>
            <p:nvPr/>
          </p:nvGrpSpPr>
          <p:grpSpPr>
            <a:xfrm>
              <a:off x="3584520" y="3127320"/>
              <a:ext cx="2359080" cy="1225440"/>
              <a:chOff x="3584520" y="3127320"/>
              <a:chExt cx="2359080" cy="1225440"/>
            </a:xfrm>
          </p:grpSpPr>
          <p:pic>
            <p:nvPicPr>
              <p:cNvPr id="358" name="Text Box 38" descr=""/>
              <p:cNvPicPr/>
              <p:nvPr/>
            </p:nvPicPr>
            <p:blipFill>
              <a:blip r:embed="rId2"/>
              <a:stretch/>
            </p:blipFill>
            <p:spPr>
              <a:xfrm>
                <a:off x="3584520" y="3127320"/>
                <a:ext cx="2359080" cy="122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9" name=""/>
              <p:cNvSpPr/>
              <p:nvPr/>
            </p:nvSpPr>
            <p:spPr>
              <a:xfrm>
                <a:off x="3733560" y="3276720"/>
                <a:ext cx="20574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060"/>
                    </a:solidFill>
                    <a:latin typeface="Verdana"/>
                  </a:rPr>
                  <a:t>PRINSI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2060"/>
                    </a:solidFill>
                    <a:latin typeface="Verdana"/>
                  </a:rPr>
                  <a:t>PENTAKSIRAN PUSA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0" name="Freeform 42"/>
          <p:cNvSpPr/>
          <p:nvPr/>
        </p:nvSpPr>
        <p:spPr>
          <a:xfrm>
            <a:off x="2962440" y="2222640"/>
            <a:ext cx="411120" cy="201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Group 143" descr=""/>
          <p:cNvPicPr/>
          <p:nvPr/>
        </p:nvPicPr>
        <p:blipFill>
          <a:blip r:embed="rId3"/>
          <a:stretch/>
        </p:blipFill>
        <p:spPr>
          <a:xfrm>
            <a:off x="6340320" y="3402000"/>
            <a:ext cx="650880" cy="652320"/>
          </a:xfrm>
          <a:prstGeom prst="rect">
            <a:avLst/>
          </a:prstGeom>
          <a:ln w="0">
            <a:noFill/>
          </a:ln>
        </p:spPr>
      </p:pic>
      <p:sp>
        <p:nvSpPr>
          <p:cNvPr id="362" name="Oval 41"/>
          <p:cNvSpPr/>
          <p:nvPr/>
        </p:nvSpPr>
        <p:spPr>
          <a:xfrm>
            <a:off x="4419720" y="152388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3e0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149"/>
          <p:cNvGrpSpPr/>
          <p:nvPr/>
        </p:nvGrpSpPr>
        <p:grpSpPr>
          <a:xfrm>
            <a:off x="4419720" y="5572080"/>
            <a:ext cx="533160" cy="533520"/>
            <a:chOff x="4419720" y="5572080"/>
            <a:chExt cx="533160" cy="533520"/>
          </a:xfrm>
        </p:grpSpPr>
        <p:sp>
          <p:nvSpPr>
            <p:cNvPr id="364" name="Freeform 42"/>
            <p:cNvSpPr/>
            <p:nvPr/>
          </p:nvSpPr>
          <p:spPr>
            <a:xfrm>
              <a:off x="4485600" y="5580720"/>
              <a:ext cx="411480" cy="201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41"/>
            <p:cNvSpPr/>
            <p:nvPr/>
          </p:nvSpPr>
          <p:spPr>
            <a:xfrm>
              <a:off x="4419720" y="5572080"/>
              <a:ext cx="533160" cy="53352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3e0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Oval 41"/>
          <p:cNvSpPr/>
          <p:nvPr/>
        </p:nvSpPr>
        <p:spPr>
          <a:xfrm>
            <a:off x="2895480" y="480996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3e0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41"/>
          <p:cNvSpPr/>
          <p:nvPr/>
        </p:nvSpPr>
        <p:spPr>
          <a:xfrm>
            <a:off x="2362320" y="351468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3e0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41"/>
          <p:cNvSpPr/>
          <p:nvPr/>
        </p:nvSpPr>
        <p:spPr>
          <a:xfrm>
            <a:off x="5867280" y="221940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3e0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41"/>
          <p:cNvSpPr/>
          <p:nvPr/>
        </p:nvSpPr>
        <p:spPr>
          <a:xfrm>
            <a:off x="5867280" y="488628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3e0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41"/>
          <p:cNvSpPr/>
          <p:nvPr/>
        </p:nvSpPr>
        <p:spPr>
          <a:xfrm>
            <a:off x="2895480" y="220968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3e0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18" descr="kpm2006"/>
          <p:cNvPicPr/>
          <p:nvPr/>
        </p:nvPicPr>
        <p:blipFill>
          <a:blip r:embed="rId4"/>
          <a:stretch/>
        </p:blipFill>
        <p:spPr>
          <a:xfrm>
            <a:off x="8096400" y="5951520"/>
            <a:ext cx="895320" cy="9064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1371600" y="26496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PENTAKSIRAN PUS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Group 3"/>
          <p:cNvGrpSpPr/>
          <p:nvPr/>
        </p:nvGrpSpPr>
        <p:grpSpPr>
          <a:xfrm>
            <a:off x="304920" y="1143000"/>
            <a:ext cx="8070840" cy="5057640"/>
            <a:chOff x="304920" y="1143000"/>
            <a:chExt cx="8070840" cy="5057640"/>
          </a:xfrm>
        </p:grpSpPr>
        <p:grpSp>
          <p:nvGrpSpPr>
            <p:cNvPr id="374" name="Rounded Rectangle 4"/>
            <p:cNvGrpSpPr/>
            <p:nvPr/>
          </p:nvGrpSpPr>
          <p:grpSpPr>
            <a:xfrm>
              <a:off x="304920" y="1143000"/>
              <a:ext cx="8070840" cy="5057640"/>
              <a:chOff x="304920" y="1143000"/>
              <a:chExt cx="8070840" cy="5057640"/>
            </a:xfrm>
          </p:grpSpPr>
          <p:pic>
            <p:nvPicPr>
              <p:cNvPr id="375" name="Rounded Rectangl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304920" y="1143000"/>
                <a:ext cx="8070840" cy="505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6" name=""/>
              <p:cNvSpPr/>
              <p:nvPr/>
            </p:nvSpPr>
            <p:spPr>
              <a:xfrm>
                <a:off x="608400" y="1417680"/>
                <a:ext cx="7469640" cy="447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Rounded Rectangle 4"/>
            <p:cNvSpPr/>
            <p:nvPr/>
          </p:nvSpPr>
          <p:spPr>
            <a:xfrm>
              <a:off x="590040" y="1337040"/>
              <a:ext cx="7506000" cy="447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2280" rIns="152280" tIns="152280" bIns="152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ff"/>
                  </a:solidFill>
                  <a:latin typeface="Arial"/>
                </a:rPr>
                <a:t>Pentaksiran yang dirancang, dibina, ditadbir, diperiksa, direkod dan dilapor oleh guru di sekolah  yang melibatkan murid, ibu bapa dan organisasi luar.  Pentaksiran Sekolah dilaksana dalam bentuk pentaksiran </a:t>
              </a:r>
              <a:r>
                <a:rPr b="1" lang="en-GB" sz="3200" spc="-1" strike="noStrike">
                  <a:solidFill>
                    <a:srgbClr val="12191a"/>
                  </a:solidFill>
                  <a:latin typeface="Arial"/>
                </a:rPr>
                <a:t>formatif</a:t>
              </a:r>
              <a:r>
                <a:rPr b="0" lang="en-GB" sz="3200" spc="-1" strike="noStrike">
                  <a:solidFill>
                    <a:srgbClr val="12191a"/>
                  </a:solidFill>
                  <a:latin typeface="Arial"/>
                </a:rPr>
                <a:t> </a:t>
              </a:r>
              <a:r>
                <a:rPr b="0" lang="en-GB" sz="3200" spc="-1" strike="noStrike">
                  <a:solidFill>
                    <a:srgbClr val="ffffff"/>
                  </a:solidFill>
                  <a:latin typeface="Arial"/>
                </a:rPr>
                <a:t>yang dijalankan seiring dengan proses pengajaran dan pembelajaran dan pentaksiran </a:t>
              </a:r>
              <a:r>
                <a:rPr b="1" lang="en-GB" sz="3200" spc="-1" strike="noStrike">
                  <a:solidFill>
                    <a:srgbClr val="ffffff"/>
                  </a:solidFill>
                  <a:latin typeface="Arial"/>
                </a:rPr>
                <a:t>sumatif</a:t>
              </a:r>
              <a:r>
                <a:rPr b="0" lang="en-GB" sz="3200" spc="-1" strike="noStrike">
                  <a:solidFill>
                    <a:srgbClr val="ffffff"/>
                  </a:solidFill>
                  <a:latin typeface="Arial"/>
                </a:rPr>
                <a:t> di akhir unit pembelajaran, semester atau tahun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8" name="Picture 18" descr="kpm2006"/>
          <p:cNvPicPr/>
          <p:nvPr/>
        </p:nvPicPr>
        <p:blipFill>
          <a:blip r:embed="rId2"/>
          <a:stretch/>
        </p:blipFill>
        <p:spPr>
          <a:xfrm>
            <a:off x="8096400" y="5951520"/>
            <a:ext cx="895320" cy="9064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1295280" y="3049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PENTAKSIRAN SEKO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30"/>
          <p:cNvSpPr/>
          <p:nvPr/>
        </p:nvSpPr>
        <p:spPr>
          <a:xfrm>
            <a:off x="4572000" y="1143000"/>
            <a:ext cx="4572000" cy="5257800"/>
          </a:xfrm>
          <a:prstGeom prst="rect">
            <a:avLst/>
          </a:prstGeom>
          <a:gradFill rotWithShape="0">
            <a:gsLst>
              <a:gs pos="0">
                <a:srgbClr val="ffeb8b"/>
              </a:gs>
              <a:gs pos="100000">
                <a:srgbClr val="fff7d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29"/>
          <p:cNvSpPr/>
          <p:nvPr/>
        </p:nvSpPr>
        <p:spPr>
          <a:xfrm>
            <a:off x="0" y="1219320"/>
            <a:ext cx="4572000" cy="5257800"/>
          </a:xfrm>
          <a:prstGeom prst="rect">
            <a:avLst/>
          </a:prstGeom>
          <a:gradFill rotWithShape="0">
            <a:gsLst>
              <a:gs pos="0">
                <a:srgbClr val="96d5bc"/>
              </a:gs>
              <a:gs pos="100000">
                <a:srgbClr val="e0f1e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127"/>
          <p:cNvGrpSpPr/>
          <p:nvPr/>
        </p:nvGrpSpPr>
        <p:grpSpPr>
          <a:xfrm>
            <a:off x="4800600" y="1550880"/>
            <a:ext cx="685800" cy="658800"/>
            <a:chOff x="4800600" y="1550880"/>
            <a:chExt cx="685800" cy="658800"/>
          </a:xfrm>
        </p:grpSpPr>
        <p:sp>
          <p:nvSpPr>
            <p:cNvPr id="383" name="Oval 9"/>
            <p:cNvSpPr/>
            <p:nvPr/>
          </p:nvSpPr>
          <p:spPr>
            <a:xfrm>
              <a:off x="4800600" y="1550880"/>
              <a:ext cx="685800" cy="6588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6c56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Wha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11"/>
            <p:cNvSpPr/>
            <p:nvPr/>
          </p:nvSpPr>
          <p:spPr>
            <a:xfrm>
              <a:off x="4949640" y="1652400"/>
              <a:ext cx="18432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122"/>
          <p:cNvGrpSpPr/>
          <p:nvPr/>
        </p:nvGrpSpPr>
        <p:grpSpPr>
          <a:xfrm>
            <a:off x="5791320" y="4724280"/>
            <a:ext cx="685800" cy="685800"/>
            <a:chOff x="5791320" y="4724280"/>
            <a:chExt cx="685800" cy="685800"/>
          </a:xfrm>
        </p:grpSpPr>
        <p:grpSp>
          <p:nvGrpSpPr>
            <p:cNvPr id="386" name="Group 70"/>
            <p:cNvGrpSpPr/>
            <p:nvPr/>
          </p:nvGrpSpPr>
          <p:grpSpPr>
            <a:xfrm>
              <a:off x="5791320" y="4724280"/>
              <a:ext cx="685800" cy="685800"/>
              <a:chOff x="5791320" y="4724280"/>
              <a:chExt cx="685800" cy="685800"/>
            </a:xfrm>
          </p:grpSpPr>
          <p:sp>
            <p:nvSpPr>
              <p:cNvPr id="387" name="Oval 71"/>
              <p:cNvSpPr/>
              <p:nvPr/>
            </p:nvSpPr>
            <p:spPr>
              <a:xfrm>
                <a:off x="5791320" y="4724280"/>
                <a:ext cx="685800" cy="685800"/>
              </a:xfrm>
              <a:prstGeom prst="ellipse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0c323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 Narrow"/>
                  </a:rPr>
                  <a:t>Q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72"/>
              <p:cNvSpPr/>
              <p:nvPr/>
            </p:nvSpPr>
            <p:spPr>
              <a:xfrm>
                <a:off x="5869440" y="4735440"/>
                <a:ext cx="529200" cy="258840"/>
              </a:xfrm>
              <a:custGeom>
                <a:avLst/>
                <a:gdLst>
                  <a:gd name="textAreaLeft" fmla="*/ 0 w 529200"/>
                  <a:gd name="textAreaRight" fmla="*/ 529560 w 52920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9" name="Text Box 73"/>
            <p:cNvSpPr/>
            <p:nvPr/>
          </p:nvSpPr>
          <p:spPr>
            <a:xfrm>
              <a:off x="5929560" y="4853160"/>
              <a:ext cx="18432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126"/>
          <p:cNvGrpSpPr/>
          <p:nvPr/>
        </p:nvGrpSpPr>
        <p:grpSpPr>
          <a:xfrm>
            <a:off x="6657840" y="2963880"/>
            <a:ext cx="681120" cy="693720"/>
            <a:chOff x="6657840" y="2963880"/>
            <a:chExt cx="681120" cy="693720"/>
          </a:xfrm>
        </p:grpSpPr>
        <p:grpSp>
          <p:nvGrpSpPr>
            <p:cNvPr id="391" name="Group 75"/>
            <p:cNvGrpSpPr/>
            <p:nvPr/>
          </p:nvGrpSpPr>
          <p:grpSpPr>
            <a:xfrm>
              <a:off x="6657840" y="2963880"/>
              <a:ext cx="681120" cy="693720"/>
              <a:chOff x="6657840" y="2963880"/>
              <a:chExt cx="681120" cy="693720"/>
            </a:xfrm>
          </p:grpSpPr>
          <p:sp>
            <p:nvSpPr>
              <p:cNvPr id="392" name="Oval 76"/>
              <p:cNvSpPr/>
              <p:nvPr/>
            </p:nvSpPr>
            <p:spPr>
              <a:xfrm>
                <a:off x="6657840" y="2963880"/>
                <a:ext cx="681120" cy="693720"/>
              </a:xfrm>
              <a:prstGeom prst="ellipse">
                <a:avLst/>
              </a:prstGeom>
              <a:gradFill rotWithShape="0">
                <a:gsLst>
                  <a:gs pos="0">
                    <a:srgbClr val="4996e3"/>
                  </a:gs>
                  <a:gs pos="100000">
                    <a:srgbClr val="214467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 Narrow"/>
                  </a:rPr>
                  <a:t>Wh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77"/>
              <p:cNvSpPr/>
              <p:nvPr/>
            </p:nvSpPr>
            <p:spPr>
              <a:xfrm>
                <a:off x="6735600" y="2975400"/>
                <a:ext cx="525600" cy="261720"/>
              </a:xfrm>
              <a:custGeom>
                <a:avLst/>
                <a:gdLst>
                  <a:gd name="textAreaLeft" fmla="*/ 0 w 525600"/>
                  <a:gd name="textAreaRight" fmla="*/ 525960 w 525600"/>
                  <a:gd name="textAreaTop" fmla="*/ 0 h 261720"/>
                  <a:gd name="textAreaBottom" fmla="*/ 262080 h 2617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6a7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" name="Text Box 78"/>
            <p:cNvSpPr/>
            <p:nvPr/>
          </p:nvSpPr>
          <p:spPr>
            <a:xfrm>
              <a:off x="6787800" y="3059280"/>
              <a:ext cx="1850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125"/>
          <p:cNvGrpSpPr/>
          <p:nvPr/>
        </p:nvGrpSpPr>
        <p:grpSpPr>
          <a:xfrm>
            <a:off x="6708600" y="3962520"/>
            <a:ext cx="654120" cy="622080"/>
            <a:chOff x="6708600" y="3962520"/>
            <a:chExt cx="654120" cy="622080"/>
          </a:xfrm>
        </p:grpSpPr>
        <p:grpSp>
          <p:nvGrpSpPr>
            <p:cNvPr id="396" name="Group 80"/>
            <p:cNvGrpSpPr/>
            <p:nvPr/>
          </p:nvGrpSpPr>
          <p:grpSpPr>
            <a:xfrm>
              <a:off x="6708600" y="3962520"/>
              <a:ext cx="654120" cy="622080"/>
              <a:chOff x="6708600" y="3962520"/>
              <a:chExt cx="654120" cy="622080"/>
            </a:xfrm>
          </p:grpSpPr>
          <p:sp>
            <p:nvSpPr>
              <p:cNvPr id="397" name="Oval 81"/>
              <p:cNvSpPr/>
              <p:nvPr/>
            </p:nvSpPr>
            <p:spPr>
              <a:xfrm>
                <a:off x="6708600" y="3962520"/>
                <a:ext cx="654120" cy="622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462e74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 Narrow"/>
                  </a:rPr>
                  <a:t>How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82"/>
              <p:cNvSpPr/>
              <p:nvPr/>
            </p:nvSpPr>
            <p:spPr>
              <a:xfrm>
                <a:off x="6783120" y="3972600"/>
                <a:ext cx="504720" cy="234720"/>
              </a:xfrm>
              <a:custGeom>
                <a:avLst/>
                <a:gdLst>
                  <a:gd name="textAreaLeft" fmla="*/ 0 w 504720"/>
                  <a:gd name="textAreaRight" fmla="*/ 505080 w 50472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" name="Text Box 83"/>
            <p:cNvSpPr/>
            <p:nvPr/>
          </p:nvSpPr>
          <p:spPr>
            <a:xfrm>
              <a:off x="6850080" y="3995640"/>
              <a:ext cx="1839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Group 128"/>
          <p:cNvGrpSpPr/>
          <p:nvPr/>
        </p:nvGrpSpPr>
        <p:grpSpPr>
          <a:xfrm>
            <a:off x="4800600" y="5105520"/>
            <a:ext cx="685800" cy="685800"/>
            <a:chOff x="4800600" y="5105520"/>
            <a:chExt cx="685800" cy="685800"/>
          </a:xfrm>
        </p:grpSpPr>
        <p:sp>
          <p:nvSpPr>
            <p:cNvPr id="401" name="Oval 91"/>
            <p:cNvSpPr/>
            <p:nvPr/>
          </p:nvSpPr>
          <p:spPr>
            <a:xfrm>
              <a:off x="4800600" y="5105520"/>
              <a:ext cx="685800" cy="68580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446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93"/>
            <p:cNvSpPr/>
            <p:nvPr/>
          </p:nvSpPr>
          <p:spPr>
            <a:xfrm>
              <a:off x="4946400" y="5181840"/>
              <a:ext cx="18432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Oval 96"/>
          <p:cNvSpPr/>
          <p:nvPr/>
        </p:nvSpPr>
        <p:spPr>
          <a:xfrm rot="18226800">
            <a:off x="5437800" y="4213440"/>
            <a:ext cx="129960" cy="13824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6644a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105"/>
          <p:cNvSpPr/>
          <p:nvPr/>
        </p:nvSpPr>
        <p:spPr>
          <a:xfrm rot="18226800">
            <a:off x="6123600" y="3348720"/>
            <a:ext cx="130320" cy="13824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0066a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126"/>
          <p:cNvGrpSpPr/>
          <p:nvPr/>
        </p:nvGrpSpPr>
        <p:grpSpPr>
          <a:xfrm>
            <a:off x="5669280" y="2006640"/>
            <a:ext cx="715680" cy="727920"/>
            <a:chOff x="5669280" y="2006640"/>
            <a:chExt cx="715680" cy="727920"/>
          </a:xfrm>
        </p:grpSpPr>
        <p:grpSp>
          <p:nvGrpSpPr>
            <p:cNvPr id="406" name="Group 75"/>
            <p:cNvGrpSpPr/>
            <p:nvPr/>
          </p:nvGrpSpPr>
          <p:grpSpPr>
            <a:xfrm>
              <a:off x="5669280" y="2006640"/>
              <a:ext cx="715680" cy="727920"/>
              <a:chOff x="5669280" y="2006640"/>
              <a:chExt cx="715680" cy="727920"/>
            </a:xfrm>
          </p:grpSpPr>
          <p:sp>
            <p:nvSpPr>
              <p:cNvPr id="407" name="Oval 76"/>
              <p:cNvSpPr/>
              <p:nvPr/>
            </p:nvSpPr>
            <p:spPr>
              <a:xfrm rot="21422400">
                <a:off x="5686560" y="2023560"/>
                <a:ext cx="680760" cy="693720"/>
              </a:xfrm>
              <a:prstGeom prst="ellipse">
                <a:avLst/>
              </a:prstGeom>
              <a:gradFill rotWithShape="0">
                <a:gsLst>
                  <a:gs pos="0">
                    <a:srgbClr val="4996e3"/>
                  </a:gs>
                  <a:gs pos="100000">
                    <a:srgbClr val="214467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77"/>
              <p:cNvSpPr/>
              <p:nvPr/>
            </p:nvSpPr>
            <p:spPr>
              <a:xfrm rot="21422400">
                <a:off x="5753520" y="2035440"/>
                <a:ext cx="525240" cy="261720"/>
              </a:xfrm>
              <a:custGeom>
                <a:avLst/>
                <a:gdLst>
                  <a:gd name="textAreaLeft" fmla="*/ 0 w 525240"/>
                  <a:gd name="textAreaRight" fmla="*/ 525240 w 525240"/>
                  <a:gd name="textAreaTop" fmla="*/ 0 h 261720"/>
                  <a:gd name="textAreaBottom" fmla="*/ 262080 h 2617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6a7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9" name="Text Box 78"/>
            <p:cNvSpPr/>
            <p:nvPr/>
          </p:nvSpPr>
          <p:spPr>
            <a:xfrm rot="21422400">
              <a:off x="5725440" y="2196000"/>
              <a:ext cx="57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Wh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Box 70"/>
          <p:cNvSpPr/>
          <p:nvPr/>
        </p:nvSpPr>
        <p:spPr>
          <a:xfrm>
            <a:off x="1371600" y="137160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ssessment for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71"/>
          <p:cNvSpPr/>
          <p:nvPr/>
        </p:nvSpPr>
        <p:spPr>
          <a:xfrm>
            <a:off x="914400" y="20574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epanjang P &amp; 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72"/>
          <p:cNvSpPr/>
          <p:nvPr/>
        </p:nvSpPr>
        <p:spPr>
          <a:xfrm>
            <a:off x="-152280" y="281952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Untuk memperbaiki pembelajaran mur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73"/>
          <p:cNvSpPr/>
          <p:nvPr/>
        </p:nvSpPr>
        <p:spPr>
          <a:xfrm>
            <a:off x="-228600" y="390996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lbaga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kaedah pentaksir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74"/>
          <p:cNvSpPr/>
          <p:nvPr/>
        </p:nvSpPr>
        <p:spPr>
          <a:xfrm>
            <a:off x="6477120" y="49528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Merujuk standard presta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75"/>
          <p:cNvSpPr/>
          <p:nvPr/>
        </p:nvSpPr>
        <p:spPr>
          <a:xfrm>
            <a:off x="1295280" y="56386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laporan  verbal / bertulis  boleh diberi bila –bila ma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58"/>
          <p:cNvSpPr/>
          <p:nvPr/>
        </p:nvSpPr>
        <p:spPr>
          <a:xfrm>
            <a:off x="4800600" y="5300640"/>
            <a:ext cx="76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 Narrow"/>
              </a:rPr>
              <a:t>Repo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Group 127"/>
          <p:cNvGrpSpPr/>
          <p:nvPr/>
        </p:nvGrpSpPr>
        <p:grpSpPr>
          <a:xfrm>
            <a:off x="3429000" y="1550880"/>
            <a:ext cx="917640" cy="658800"/>
            <a:chOff x="3429000" y="1550880"/>
            <a:chExt cx="917640" cy="658800"/>
          </a:xfrm>
        </p:grpSpPr>
        <p:sp>
          <p:nvSpPr>
            <p:cNvPr id="418" name="Oval 9"/>
            <p:cNvSpPr/>
            <p:nvPr/>
          </p:nvSpPr>
          <p:spPr>
            <a:xfrm>
              <a:off x="3660840" y="1550880"/>
              <a:ext cx="685800" cy="6588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6c56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Wha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11"/>
            <p:cNvSpPr/>
            <p:nvPr/>
          </p:nvSpPr>
          <p:spPr>
            <a:xfrm>
              <a:off x="3429000" y="1652400"/>
              <a:ext cx="18432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TextBox 78"/>
          <p:cNvSpPr/>
          <p:nvPr/>
        </p:nvSpPr>
        <p:spPr>
          <a:xfrm>
            <a:off x="5334120" y="1371600"/>
            <a:ext cx="281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ssessment  of 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126"/>
          <p:cNvGrpSpPr/>
          <p:nvPr/>
        </p:nvGrpSpPr>
        <p:grpSpPr>
          <a:xfrm>
            <a:off x="2722680" y="2008800"/>
            <a:ext cx="714600" cy="727560"/>
            <a:chOff x="2722680" y="2008800"/>
            <a:chExt cx="714600" cy="727560"/>
          </a:xfrm>
        </p:grpSpPr>
        <p:grpSp>
          <p:nvGrpSpPr>
            <p:cNvPr id="422" name="Group 75"/>
            <p:cNvGrpSpPr/>
            <p:nvPr/>
          </p:nvGrpSpPr>
          <p:grpSpPr>
            <a:xfrm>
              <a:off x="2722680" y="2008800"/>
              <a:ext cx="714600" cy="727560"/>
              <a:chOff x="2722680" y="2008800"/>
              <a:chExt cx="714600" cy="727560"/>
            </a:xfrm>
          </p:grpSpPr>
          <p:sp>
            <p:nvSpPr>
              <p:cNvPr id="423" name="Oval 76"/>
              <p:cNvSpPr/>
              <p:nvPr/>
            </p:nvSpPr>
            <p:spPr>
              <a:xfrm rot="21422400">
                <a:off x="2739960" y="2025360"/>
                <a:ext cx="679680" cy="693720"/>
              </a:xfrm>
              <a:prstGeom prst="ellipse">
                <a:avLst/>
              </a:prstGeom>
              <a:gradFill rotWithShape="0">
                <a:gsLst>
                  <a:gs pos="0">
                    <a:srgbClr val="4996e3"/>
                  </a:gs>
                  <a:gs pos="100000">
                    <a:srgbClr val="214467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77"/>
              <p:cNvSpPr/>
              <p:nvPr/>
            </p:nvSpPr>
            <p:spPr>
              <a:xfrm rot="21422400">
                <a:off x="2806560" y="2037240"/>
                <a:ext cx="524520" cy="261720"/>
              </a:xfrm>
              <a:custGeom>
                <a:avLst/>
                <a:gdLst>
                  <a:gd name="textAreaLeft" fmla="*/ 0 w 524520"/>
                  <a:gd name="textAreaRight" fmla="*/ 524880 w 524520"/>
                  <a:gd name="textAreaTop" fmla="*/ 0 h 261720"/>
                  <a:gd name="textAreaBottom" fmla="*/ 262080 h 2617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6a7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5" name="Text Box 78"/>
            <p:cNvSpPr/>
            <p:nvPr/>
          </p:nvSpPr>
          <p:spPr>
            <a:xfrm rot="21422400">
              <a:off x="2780280" y="2197440"/>
              <a:ext cx="57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Wh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TextBox 86"/>
          <p:cNvSpPr/>
          <p:nvPr/>
        </p:nvSpPr>
        <p:spPr>
          <a:xfrm>
            <a:off x="6400800" y="206676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Di hujung  sesuatu unit  pembelajar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126"/>
          <p:cNvGrpSpPr/>
          <p:nvPr/>
        </p:nvGrpSpPr>
        <p:grpSpPr>
          <a:xfrm>
            <a:off x="1819440" y="2971800"/>
            <a:ext cx="680760" cy="693720"/>
            <a:chOff x="1819440" y="2971800"/>
            <a:chExt cx="680760" cy="693720"/>
          </a:xfrm>
        </p:grpSpPr>
        <p:grpSp>
          <p:nvGrpSpPr>
            <p:cNvPr id="428" name="Group 75"/>
            <p:cNvGrpSpPr/>
            <p:nvPr/>
          </p:nvGrpSpPr>
          <p:grpSpPr>
            <a:xfrm>
              <a:off x="1819440" y="2971800"/>
              <a:ext cx="680760" cy="693720"/>
              <a:chOff x="1819440" y="2971800"/>
              <a:chExt cx="680760" cy="693720"/>
            </a:xfrm>
          </p:grpSpPr>
          <p:sp>
            <p:nvSpPr>
              <p:cNvPr id="429" name="Oval 76"/>
              <p:cNvSpPr/>
              <p:nvPr/>
            </p:nvSpPr>
            <p:spPr>
              <a:xfrm>
                <a:off x="1819440" y="2971800"/>
                <a:ext cx="680760" cy="693720"/>
              </a:xfrm>
              <a:prstGeom prst="ellipse">
                <a:avLst/>
              </a:prstGeom>
              <a:gradFill rotWithShape="0">
                <a:gsLst>
                  <a:gs pos="0">
                    <a:srgbClr val="4996e3"/>
                  </a:gs>
                  <a:gs pos="100000">
                    <a:srgbClr val="214467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 Narrow"/>
                  </a:rPr>
                  <a:t>Wh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77"/>
              <p:cNvSpPr/>
              <p:nvPr/>
            </p:nvSpPr>
            <p:spPr>
              <a:xfrm>
                <a:off x="1897200" y="2983320"/>
                <a:ext cx="525240" cy="261720"/>
              </a:xfrm>
              <a:custGeom>
                <a:avLst/>
                <a:gdLst>
                  <a:gd name="textAreaLeft" fmla="*/ 0 w 525240"/>
                  <a:gd name="textAreaRight" fmla="*/ 525240 w 525240"/>
                  <a:gd name="textAreaTop" fmla="*/ 0 h 261720"/>
                  <a:gd name="textAreaBottom" fmla="*/ 262080 h 2617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66a7e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Text Box 78"/>
            <p:cNvSpPr/>
            <p:nvPr/>
          </p:nvSpPr>
          <p:spPr>
            <a:xfrm>
              <a:off x="1949040" y="3067200"/>
              <a:ext cx="1850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TextBox 92"/>
          <p:cNvSpPr/>
          <p:nvPr/>
        </p:nvSpPr>
        <p:spPr>
          <a:xfrm>
            <a:off x="7315200" y="281952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Untuk mendapatkan maklumat  perkembangan mur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125"/>
          <p:cNvGrpSpPr/>
          <p:nvPr/>
        </p:nvGrpSpPr>
        <p:grpSpPr>
          <a:xfrm>
            <a:off x="1827360" y="3886200"/>
            <a:ext cx="653760" cy="622440"/>
            <a:chOff x="1827360" y="3886200"/>
            <a:chExt cx="653760" cy="622440"/>
          </a:xfrm>
        </p:grpSpPr>
        <p:grpSp>
          <p:nvGrpSpPr>
            <p:cNvPr id="434" name="Group 80"/>
            <p:cNvGrpSpPr/>
            <p:nvPr/>
          </p:nvGrpSpPr>
          <p:grpSpPr>
            <a:xfrm>
              <a:off x="1827360" y="3886200"/>
              <a:ext cx="653760" cy="622440"/>
              <a:chOff x="1827360" y="3886200"/>
              <a:chExt cx="653760" cy="622440"/>
            </a:xfrm>
          </p:grpSpPr>
          <p:sp>
            <p:nvSpPr>
              <p:cNvPr id="435" name="Oval 81"/>
              <p:cNvSpPr/>
              <p:nvPr/>
            </p:nvSpPr>
            <p:spPr>
              <a:xfrm>
                <a:off x="1827360" y="3886200"/>
                <a:ext cx="653760" cy="6224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462e74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 Narrow"/>
                  </a:rPr>
                  <a:t>How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82"/>
              <p:cNvSpPr/>
              <p:nvPr/>
            </p:nvSpPr>
            <p:spPr>
              <a:xfrm>
                <a:off x="1901880" y="3896280"/>
                <a:ext cx="504360" cy="234720"/>
              </a:xfrm>
              <a:custGeom>
                <a:avLst/>
                <a:gdLst>
                  <a:gd name="textAreaLeft" fmla="*/ 0 w 504360"/>
                  <a:gd name="textAreaRight" fmla="*/ 504720 w 50436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7" name="Text Box 83"/>
            <p:cNvSpPr/>
            <p:nvPr/>
          </p:nvSpPr>
          <p:spPr>
            <a:xfrm>
              <a:off x="1968480" y="3919680"/>
              <a:ext cx="1836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TextBox 98"/>
          <p:cNvSpPr/>
          <p:nvPr/>
        </p:nvSpPr>
        <p:spPr>
          <a:xfrm>
            <a:off x="7391520" y="406224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lbaga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kaedah pentaksir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122"/>
          <p:cNvGrpSpPr/>
          <p:nvPr/>
        </p:nvGrpSpPr>
        <p:grpSpPr>
          <a:xfrm>
            <a:off x="2514600" y="4648320"/>
            <a:ext cx="685800" cy="685800"/>
            <a:chOff x="2514600" y="4648320"/>
            <a:chExt cx="685800" cy="685800"/>
          </a:xfrm>
        </p:grpSpPr>
        <p:grpSp>
          <p:nvGrpSpPr>
            <p:cNvPr id="440" name="Group 70"/>
            <p:cNvGrpSpPr/>
            <p:nvPr/>
          </p:nvGrpSpPr>
          <p:grpSpPr>
            <a:xfrm>
              <a:off x="2514600" y="4648320"/>
              <a:ext cx="685800" cy="685800"/>
              <a:chOff x="2514600" y="4648320"/>
              <a:chExt cx="685800" cy="685800"/>
            </a:xfrm>
          </p:grpSpPr>
          <p:sp>
            <p:nvSpPr>
              <p:cNvPr id="441" name="Oval 71"/>
              <p:cNvSpPr/>
              <p:nvPr/>
            </p:nvSpPr>
            <p:spPr>
              <a:xfrm>
                <a:off x="2514600" y="4648320"/>
                <a:ext cx="685800" cy="685800"/>
              </a:xfrm>
              <a:prstGeom prst="ellipse">
                <a:avLst/>
              </a:prstGeom>
              <a:gradFill rotWithShape="0">
                <a:gsLst>
                  <a:gs pos="0">
                    <a:srgbClr val="33cccc"/>
                  </a:gs>
                  <a:gs pos="100000">
                    <a:srgbClr val="0c3232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 Narrow"/>
                  </a:rPr>
                  <a:t>Q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72"/>
              <p:cNvSpPr/>
              <p:nvPr/>
            </p:nvSpPr>
            <p:spPr>
              <a:xfrm>
                <a:off x="2592720" y="4659480"/>
                <a:ext cx="529200" cy="258840"/>
              </a:xfrm>
              <a:custGeom>
                <a:avLst/>
                <a:gdLst>
                  <a:gd name="textAreaLeft" fmla="*/ 0 w 529200"/>
                  <a:gd name="textAreaRight" fmla="*/ 529560 w 52920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3" name="Text Box 73"/>
            <p:cNvSpPr/>
            <p:nvPr/>
          </p:nvSpPr>
          <p:spPr>
            <a:xfrm>
              <a:off x="2652840" y="4777200"/>
              <a:ext cx="18432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Rectangle 104"/>
          <p:cNvSpPr/>
          <p:nvPr/>
        </p:nvSpPr>
        <p:spPr>
          <a:xfrm>
            <a:off x="304920" y="48769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Merujuk standard presta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128"/>
          <p:cNvGrpSpPr/>
          <p:nvPr/>
        </p:nvGrpSpPr>
        <p:grpSpPr>
          <a:xfrm>
            <a:off x="3657600" y="5105520"/>
            <a:ext cx="685800" cy="685800"/>
            <a:chOff x="3657600" y="5105520"/>
            <a:chExt cx="685800" cy="685800"/>
          </a:xfrm>
        </p:grpSpPr>
        <p:sp>
          <p:nvSpPr>
            <p:cNvPr id="446" name="Oval 91"/>
            <p:cNvSpPr/>
            <p:nvPr/>
          </p:nvSpPr>
          <p:spPr>
            <a:xfrm>
              <a:off x="3657600" y="5105520"/>
              <a:ext cx="685800" cy="68580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7446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93"/>
            <p:cNvSpPr/>
            <p:nvPr/>
          </p:nvSpPr>
          <p:spPr>
            <a:xfrm>
              <a:off x="3803400" y="5181840"/>
              <a:ext cx="18432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TextBox 108"/>
          <p:cNvSpPr/>
          <p:nvPr/>
        </p:nvSpPr>
        <p:spPr>
          <a:xfrm>
            <a:off x="3657600" y="5300640"/>
            <a:ext cx="76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 Narrow"/>
              </a:rPr>
              <a:t>Repo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09"/>
          <p:cNvSpPr/>
          <p:nvPr/>
        </p:nvSpPr>
        <p:spPr>
          <a:xfrm>
            <a:off x="5334120" y="5562720"/>
            <a:ext cx="2819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laporan kuantitatif / kumulatif boleh diberi di hujung setiap semester / tahun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100"/>
          <p:cNvSpPr/>
          <p:nvPr/>
        </p:nvSpPr>
        <p:spPr>
          <a:xfrm>
            <a:off x="0" y="3049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Proses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Pembentuk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Rounded Rectangle 108"/>
          <p:cNvGrpSpPr/>
          <p:nvPr/>
        </p:nvGrpSpPr>
        <p:grpSpPr>
          <a:xfrm>
            <a:off x="4602240" y="2998800"/>
            <a:ext cx="2163600" cy="1785960"/>
            <a:chOff x="4602240" y="2998800"/>
            <a:chExt cx="2163600" cy="1785960"/>
          </a:xfrm>
        </p:grpSpPr>
        <p:pic>
          <p:nvPicPr>
            <p:cNvPr id="452" name="Rounded Rectangle 108" descr=""/>
            <p:cNvPicPr/>
            <p:nvPr/>
          </p:nvPicPr>
          <p:blipFill>
            <a:blip r:embed="rId1"/>
            <a:stretch/>
          </p:blipFill>
          <p:spPr>
            <a:xfrm>
              <a:off x="4602240" y="2998800"/>
              <a:ext cx="21636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4714920" y="3114720"/>
              <a:ext cx="1619280" cy="12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Pentaksiran SUMATI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Rounded Rectangle 109"/>
          <p:cNvGrpSpPr/>
          <p:nvPr/>
        </p:nvGrpSpPr>
        <p:grpSpPr>
          <a:xfrm>
            <a:off x="2773440" y="2998800"/>
            <a:ext cx="2163600" cy="1785960"/>
            <a:chOff x="2773440" y="2998800"/>
            <a:chExt cx="2163600" cy="1785960"/>
          </a:xfrm>
        </p:grpSpPr>
        <p:pic>
          <p:nvPicPr>
            <p:cNvPr id="455" name="Rounded Rectangle 109" descr=""/>
            <p:cNvPicPr/>
            <p:nvPr/>
          </p:nvPicPr>
          <p:blipFill>
            <a:blip r:embed="rId2"/>
            <a:stretch/>
          </p:blipFill>
          <p:spPr>
            <a:xfrm>
              <a:off x="2773440" y="2998800"/>
              <a:ext cx="21636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"/>
            <p:cNvSpPr/>
            <p:nvPr/>
          </p:nvSpPr>
          <p:spPr>
            <a:xfrm>
              <a:off x="2886120" y="3114720"/>
              <a:ext cx="1619280" cy="12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Pentaksiran FORMATI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Oval 104"/>
          <p:cNvSpPr/>
          <p:nvPr/>
        </p:nvSpPr>
        <p:spPr>
          <a:xfrm rot="16458600">
            <a:off x="3023280" y="2794320"/>
            <a:ext cx="130320" cy="13824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0066a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104"/>
          <p:cNvSpPr/>
          <p:nvPr/>
        </p:nvSpPr>
        <p:spPr>
          <a:xfrm rot="16458600">
            <a:off x="2566080" y="3276720"/>
            <a:ext cx="129960" cy="13824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0066a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04"/>
          <p:cNvSpPr/>
          <p:nvPr/>
        </p:nvSpPr>
        <p:spPr>
          <a:xfrm rot="16458600">
            <a:off x="5956920" y="2808720"/>
            <a:ext cx="130320" cy="13824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0066a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104"/>
          <p:cNvSpPr/>
          <p:nvPr/>
        </p:nvSpPr>
        <p:spPr>
          <a:xfrm rot="16458600">
            <a:off x="6460200" y="3289680"/>
            <a:ext cx="130320" cy="13824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0066a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95"/>
          <p:cNvSpPr/>
          <p:nvPr/>
        </p:nvSpPr>
        <p:spPr>
          <a:xfrm rot="18226800">
            <a:off x="6504480" y="4137840"/>
            <a:ext cx="130320" cy="13788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6644a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95"/>
          <p:cNvSpPr/>
          <p:nvPr/>
        </p:nvSpPr>
        <p:spPr>
          <a:xfrm rot="18226800">
            <a:off x="2542320" y="4137840"/>
            <a:ext cx="130320" cy="138240"/>
          </a:xfrm>
          <a:prstGeom prst="ellipse">
            <a:avLst/>
          </a:prstGeom>
          <a:gradFill rotWithShape="0">
            <a:gsLst>
              <a:gs pos="0">
                <a:srgbClr val="9966ff"/>
              </a:gs>
              <a:gs pos="100000">
                <a:srgbClr val="6644a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Group 124"/>
          <p:cNvGrpSpPr/>
          <p:nvPr/>
        </p:nvGrpSpPr>
        <p:grpSpPr>
          <a:xfrm>
            <a:off x="3914280" y="2328480"/>
            <a:ext cx="187200" cy="467640"/>
            <a:chOff x="3914280" y="2328480"/>
            <a:chExt cx="187200" cy="467640"/>
          </a:xfrm>
        </p:grpSpPr>
        <p:sp>
          <p:nvSpPr>
            <p:cNvPr id="464" name="Oval 102"/>
            <p:cNvSpPr/>
            <p:nvPr/>
          </p:nvSpPr>
          <p:spPr>
            <a:xfrm rot="18226800">
              <a:off x="3942360" y="2351880"/>
              <a:ext cx="130320" cy="13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aa8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103"/>
            <p:cNvSpPr/>
            <p:nvPr/>
          </p:nvSpPr>
          <p:spPr>
            <a:xfrm rot="18226800">
              <a:off x="3942360" y="2634480"/>
              <a:ext cx="130320" cy="13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aa8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Group 124"/>
          <p:cNvGrpSpPr/>
          <p:nvPr/>
        </p:nvGrpSpPr>
        <p:grpSpPr>
          <a:xfrm>
            <a:off x="5057280" y="2328480"/>
            <a:ext cx="187200" cy="467640"/>
            <a:chOff x="5057280" y="2328480"/>
            <a:chExt cx="187200" cy="467640"/>
          </a:xfrm>
        </p:grpSpPr>
        <p:sp>
          <p:nvSpPr>
            <p:cNvPr id="467" name="Oval 102"/>
            <p:cNvSpPr/>
            <p:nvPr/>
          </p:nvSpPr>
          <p:spPr>
            <a:xfrm rot="18226800">
              <a:off x="5085360" y="2351880"/>
              <a:ext cx="130320" cy="13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aa8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103"/>
            <p:cNvSpPr/>
            <p:nvPr/>
          </p:nvSpPr>
          <p:spPr>
            <a:xfrm rot="18226800">
              <a:off x="5085360" y="2634480"/>
              <a:ext cx="130320" cy="13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aa8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Group 124"/>
          <p:cNvGrpSpPr/>
          <p:nvPr/>
        </p:nvGrpSpPr>
        <p:grpSpPr>
          <a:xfrm>
            <a:off x="3912480" y="4550760"/>
            <a:ext cx="187200" cy="467280"/>
            <a:chOff x="3912480" y="4550760"/>
            <a:chExt cx="187200" cy="467280"/>
          </a:xfrm>
        </p:grpSpPr>
        <p:sp>
          <p:nvSpPr>
            <p:cNvPr id="470" name="Oval 102"/>
            <p:cNvSpPr/>
            <p:nvPr/>
          </p:nvSpPr>
          <p:spPr>
            <a:xfrm rot="18226800">
              <a:off x="3940920" y="457380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aa8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103"/>
            <p:cNvSpPr/>
            <p:nvPr/>
          </p:nvSpPr>
          <p:spPr>
            <a:xfrm rot="18226800">
              <a:off x="3940920" y="485604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aa8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Group 124"/>
          <p:cNvGrpSpPr/>
          <p:nvPr/>
        </p:nvGrpSpPr>
        <p:grpSpPr>
          <a:xfrm>
            <a:off x="5019120" y="4557240"/>
            <a:ext cx="187200" cy="467640"/>
            <a:chOff x="5019120" y="4557240"/>
            <a:chExt cx="187200" cy="467640"/>
          </a:xfrm>
        </p:grpSpPr>
        <p:sp>
          <p:nvSpPr>
            <p:cNvPr id="473" name="Oval 102"/>
            <p:cNvSpPr/>
            <p:nvPr/>
          </p:nvSpPr>
          <p:spPr>
            <a:xfrm rot="18226800">
              <a:off x="5047200" y="4580640"/>
              <a:ext cx="130320" cy="13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aa8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103"/>
            <p:cNvSpPr/>
            <p:nvPr/>
          </p:nvSpPr>
          <p:spPr>
            <a:xfrm rot="18226800">
              <a:off x="5047200" y="4863240"/>
              <a:ext cx="130320" cy="1378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aa88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Oval 64"/>
          <p:cNvSpPr/>
          <p:nvPr/>
        </p:nvSpPr>
        <p:spPr>
          <a:xfrm rot="2200200">
            <a:off x="5935320" y="4508280"/>
            <a:ext cx="147600" cy="12996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22888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64"/>
          <p:cNvSpPr/>
          <p:nvPr/>
        </p:nvSpPr>
        <p:spPr>
          <a:xfrm rot="2200200">
            <a:off x="3071880" y="4501800"/>
            <a:ext cx="147600" cy="13032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22888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013360" y="30492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Proses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erumusk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AutoShape 3"/>
          <p:cNvSpPr/>
          <p:nvPr/>
        </p:nvSpPr>
        <p:spPr>
          <a:xfrm>
            <a:off x="1600200" y="1219320"/>
            <a:ext cx="6400800" cy="50292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4"/>
          <p:cNvSpPr/>
          <p:nvPr/>
        </p:nvSpPr>
        <p:spPr>
          <a:xfrm>
            <a:off x="2362320" y="1905120"/>
            <a:ext cx="4805280" cy="914400"/>
          </a:xfrm>
          <a:prstGeom prst="roundRect">
            <a:avLst>
              <a:gd name="adj" fmla="val 11921"/>
            </a:avLst>
          </a:prstGeom>
          <a:solidFill>
            <a:srgbClr val="7e9ce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3"/>
          <p:cNvSpPr/>
          <p:nvPr/>
        </p:nvSpPr>
        <p:spPr>
          <a:xfrm>
            <a:off x="3494160" y="2070000"/>
            <a:ext cx="35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jukan N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4"/>
          <p:cNvSpPr/>
          <p:nvPr/>
        </p:nvSpPr>
        <p:spPr>
          <a:xfrm>
            <a:off x="2362320" y="3200400"/>
            <a:ext cx="4881600" cy="838080"/>
          </a:xfrm>
          <a:prstGeom prst="roundRect">
            <a:avLst>
              <a:gd name="adj" fmla="val 11921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reeform 10"/>
          <p:cNvSpPr/>
          <p:nvPr/>
        </p:nvSpPr>
        <p:spPr>
          <a:xfrm>
            <a:off x="2438280" y="3276720"/>
            <a:ext cx="522360" cy="685800"/>
          </a:xfrm>
          <a:prstGeom prst="pie">
            <a:avLst/>
          </a:prstGeom>
          <a:solidFill>
            <a:srgbClr val="4a9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3"/>
          <p:cNvSpPr/>
          <p:nvPr/>
        </p:nvSpPr>
        <p:spPr>
          <a:xfrm>
            <a:off x="3494160" y="3352680"/>
            <a:ext cx="35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jukan K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4"/>
          <p:cNvSpPr/>
          <p:nvPr/>
        </p:nvSpPr>
        <p:spPr>
          <a:xfrm>
            <a:off x="2286000" y="4572000"/>
            <a:ext cx="4952880" cy="762120"/>
          </a:xfrm>
          <a:prstGeom prst="roundRect">
            <a:avLst>
              <a:gd name="adj" fmla="val 11921"/>
            </a:avLst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15"/>
          <p:cNvSpPr/>
          <p:nvPr/>
        </p:nvSpPr>
        <p:spPr>
          <a:xfrm>
            <a:off x="2425680" y="4648320"/>
            <a:ext cx="534960" cy="609480"/>
          </a:xfrm>
          <a:prstGeom prst="pi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3"/>
          <p:cNvSpPr/>
          <p:nvPr/>
        </p:nvSpPr>
        <p:spPr>
          <a:xfrm>
            <a:off x="2971800" y="46483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jukan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10"/>
          <p:cNvSpPr/>
          <p:nvPr/>
        </p:nvSpPr>
        <p:spPr>
          <a:xfrm>
            <a:off x="2438280" y="1981080"/>
            <a:ext cx="611280" cy="685800"/>
          </a:xfrm>
          <a:prstGeom prst="pi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16" descr="A:\lpcolor.jpg"/>
          <p:cNvPicPr/>
          <p:nvPr/>
        </p:nvPicPr>
        <p:blipFill>
          <a:blip r:embed="rId1"/>
          <a:stretch/>
        </p:blipFill>
        <p:spPr>
          <a:xfrm>
            <a:off x="0" y="0"/>
            <a:ext cx="1219320" cy="76212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2286000" y="798480"/>
            <a:ext cx="47242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PENTAKSIR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0" name=""/>
          <p:cNvGraphicFramePr/>
          <p:nvPr/>
        </p:nvGraphicFramePr>
        <p:xfrm>
          <a:off x="457200" y="685800"/>
          <a:ext cx="8229600" cy="4753080"/>
        </p:xfrm>
        <a:graphic>
          <a:graphicData uri="http://schemas.openxmlformats.org/drawingml/2006/table">
            <a:tbl>
              <a:tblPr/>
              <a:tblGrid>
                <a:gridCol w="2895480"/>
                <a:gridCol w="5334120"/>
              </a:tblGrid>
              <a:tr h="189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jukan Norm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2880" bIns="18288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Melapor prestasi murid dalam pembelajara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engan meletakkan murid dalam sistem pangkat / aras dan membanding antara murid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erujuk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pada skor / markah yang diperole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jukan Kriteri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2880" bIns="18288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Melapor prestasi murid dalam pembelajara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engan melihat apa yang telah disempurnakan oleh murid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erujuk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epada kriteria sesuatu domain (ada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fier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jukan Standar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2880" bIns="18288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Melapor prestasi murid dalam pembelajara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engan menerangkan tentang kemajuan 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wt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murid dalam pembelajaran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erujuk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pada stand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WordArt 2"/>
          <p:cNvSpPr txBox="1"/>
          <p:nvPr/>
        </p:nvSpPr>
        <p:spPr>
          <a:xfrm>
            <a:off x="990720" y="685800"/>
            <a:ext cx="6553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Pentaksiran Rujukan Standard</a:t>
            </a:r>
            <a:endParaRPr b="0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2" name="Text Box 3"/>
          <p:cNvSpPr/>
          <p:nvPr/>
        </p:nvSpPr>
        <p:spPr>
          <a:xfrm>
            <a:off x="838080" y="1752480"/>
            <a:ext cx="739152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Tiada had kepada peratusan murid untuk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mencapai sesuatu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Taburan markah / gred tidak ditetapk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Pelaporan adalah serasi dengan kehendak 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pendidik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arkah / Gred kurang bermakna kerana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idak memberi interpretasi apa yang murid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ahu dan boleh bu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Kedudukan / Rank dalam suatu ujian tidak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memberi maklumat selanjutnya tentang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encapaian murid dalam pembelaja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Kriteria tidak menunjukkan pertumbu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4" descr="A:\lpcolor.jpg"/>
          <p:cNvPicPr/>
          <p:nvPr/>
        </p:nvPicPr>
        <p:blipFill>
          <a:blip r:embed="rId3"/>
          <a:stretch/>
        </p:blipFill>
        <p:spPr>
          <a:xfrm>
            <a:off x="0" y="0"/>
            <a:ext cx="12193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WordArt 2"/>
          <p:cNvSpPr txBox="1"/>
          <p:nvPr/>
        </p:nvSpPr>
        <p:spPr>
          <a:xfrm>
            <a:off x="1066680" y="762120"/>
            <a:ext cx="64771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STANDARD DI NEGARA LAIN</a:t>
            </a:r>
            <a:endParaRPr b="0" lang="en-US" sz="2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5" name="Text Box 3"/>
          <p:cNvSpPr/>
          <p:nvPr/>
        </p:nvSpPr>
        <p:spPr>
          <a:xfrm>
            <a:off x="457200" y="1770120"/>
            <a:ext cx="83818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SW H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-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engetahuan, kefahaman dan kemahiran dijangkakan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icapai oleh murid selepas sesi p&amp;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ahap pencapaian pengetahuan, kefahaman dan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kemahi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4"/>
          <p:cNvSpPr/>
          <p:nvPr/>
        </p:nvSpPr>
        <p:spPr>
          <a:xfrm>
            <a:off x="457200" y="38098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US New Standards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Arial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Arial"/>
              </a:rPr>
              <a:t>-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Arial"/>
              </a:rPr>
              <a:t>Apa yang murid patut tahu dan boleh bu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5"/>
          <p:cNvSpPr/>
          <p:nvPr/>
        </p:nvSpPr>
        <p:spPr>
          <a:xfrm>
            <a:off x="533520" y="5029200"/>
            <a:ext cx="85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378d37"/>
                </a:solidFill>
                <a:latin typeface="Comic Sans MS"/>
              </a:rPr>
              <a:t>Victoria’s CS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8d37"/>
                </a:solidFill>
                <a:latin typeface="Comic Sans MS"/>
              </a:rPr>
              <a:t>           </a:t>
            </a:r>
            <a:r>
              <a:rPr b="0" lang="en-US" sz="2000" spc="-1" strike="noStrike">
                <a:solidFill>
                  <a:srgbClr val="378d37"/>
                </a:solidFill>
                <a:latin typeface="Comic Sans MS"/>
              </a:rPr>
              <a:t>- </a:t>
            </a:r>
            <a:r>
              <a:rPr b="0" lang="en-US" sz="2000" spc="-1" strike="noStrike">
                <a:solidFill>
                  <a:srgbClr val="378d37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78d37"/>
                </a:solidFill>
                <a:latin typeface="Comic Sans MS"/>
              </a:rPr>
              <a:t>Benchmark pencapaian murid yang boleh diuk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2"/>
          <p:cNvSpPr/>
          <p:nvPr/>
        </p:nvSpPr>
        <p:spPr>
          <a:xfrm>
            <a:off x="1219320" y="838080"/>
            <a:ext cx="592128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LSAFAH PENDIDIKAN KEBANGS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3"/>
          <p:cNvSpPr/>
          <p:nvPr/>
        </p:nvSpPr>
        <p:spPr>
          <a:xfrm>
            <a:off x="228600" y="2300400"/>
            <a:ext cx="304812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KURIK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4"/>
          <p:cNvSpPr/>
          <p:nvPr/>
        </p:nvSpPr>
        <p:spPr>
          <a:xfrm>
            <a:off x="5334120" y="2286000"/>
            <a:ext cx="34290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PRESTA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5"/>
          <p:cNvSpPr/>
          <p:nvPr/>
        </p:nvSpPr>
        <p:spPr>
          <a:xfrm flipH="1">
            <a:off x="1523520" y="1371600"/>
            <a:ext cx="2590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6"/>
          <p:cNvSpPr/>
          <p:nvPr/>
        </p:nvSpPr>
        <p:spPr>
          <a:xfrm>
            <a:off x="4114800" y="1371600"/>
            <a:ext cx="2514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"/>
          <p:cNvSpPr/>
          <p:nvPr/>
        </p:nvSpPr>
        <p:spPr>
          <a:xfrm>
            <a:off x="152280" y="3200400"/>
            <a:ext cx="266724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la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kt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Kandun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Pembelaja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8"/>
          <p:cNvSpPr/>
          <p:nvPr/>
        </p:nvSpPr>
        <p:spPr>
          <a:xfrm>
            <a:off x="6324480" y="3276720"/>
            <a:ext cx="2590920" cy="91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nyataan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kri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id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9"/>
          <p:cNvSpPr/>
          <p:nvPr/>
        </p:nvSpPr>
        <p:spPr>
          <a:xfrm>
            <a:off x="137160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0"/>
          <p:cNvSpPr/>
          <p:nvPr/>
        </p:nvSpPr>
        <p:spPr>
          <a:xfrm>
            <a:off x="71629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1"/>
          <p:cNvSpPr/>
          <p:nvPr/>
        </p:nvSpPr>
        <p:spPr>
          <a:xfrm>
            <a:off x="163440" y="5181480"/>
            <a:ext cx="2689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a yang patut dipelaj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2"/>
          <p:cNvSpPr/>
          <p:nvPr/>
        </p:nvSpPr>
        <p:spPr>
          <a:xfrm>
            <a:off x="5791320" y="5029200"/>
            <a:ext cx="312408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a yang dilaporkan tentang pencapaian mu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13"/>
          <p:cNvSpPr/>
          <p:nvPr/>
        </p:nvSpPr>
        <p:spPr>
          <a:xfrm>
            <a:off x="1371600" y="4495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14"/>
          <p:cNvSpPr/>
          <p:nvPr/>
        </p:nvSpPr>
        <p:spPr>
          <a:xfrm>
            <a:off x="716292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5"/>
          <p:cNvSpPr/>
          <p:nvPr/>
        </p:nvSpPr>
        <p:spPr>
          <a:xfrm>
            <a:off x="3581280" y="3352680"/>
            <a:ext cx="1828800" cy="91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TAKSI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16"/>
          <p:cNvSpPr/>
          <p:nvPr/>
        </p:nvSpPr>
        <p:spPr>
          <a:xfrm flipH="1">
            <a:off x="2895480" y="380988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17"/>
          <p:cNvSpPr/>
          <p:nvPr/>
        </p:nvSpPr>
        <p:spPr>
          <a:xfrm>
            <a:off x="5562720" y="38098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18" descr="A:\lpcolor.jpg"/>
          <p:cNvPicPr/>
          <p:nvPr/>
        </p:nvPicPr>
        <p:blipFill>
          <a:blip r:embed="rId1"/>
          <a:stretch/>
        </p:blipFill>
        <p:spPr>
          <a:xfrm>
            <a:off x="0" y="0"/>
            <a:ext cx="12193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632448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AGAIMANA MEREALISASIKAN PENTAKSIRAN RUJUKAN STANDARD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914400" y="3276360"/>
            <a:ext cx="73152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8d37"/>
                </a:solidFill>
                <a:latin typeface="Arial"/>
              </a:rPr>
              <a:t>Perlu Standard Prest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4" descr="A:\lpcolor.jpg"/>
          <p:cNvPicPr/>
          <p:nvPr/>
        </p:nvPicPr>
        <p:blipFill>
          <a:blip r:embed="rId1"/>
          <a:stretch/>
        </p:blipFill>
        <p:spPr>
          <a:xfrm>
            <a:off x="0" y="0"/>
            <a:ext cx="12193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3"/>
          <p:cNvSpPr/>
          <p:nvPr/>
        </p:nvSpPr>
        <p:spPr>
          <a:xfrm>
            <a:off x="990720" y="60948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PENTAKSIR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057400" y="1981080"/>
            <a:ext cx="6934320" cy="36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Pengumpulan maklumat bertujuan untuk mengetah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APA yang murid TA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APA yang murid BOLEH BU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APA yang murid BOLEH AMALK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A:\lpcolor.jpg"/>
          <p:cNvPicPr/>
          <p:nvPr/>
        </p:nvPicPr>
        <p:blipFill>
          <a:blip r:embed="rId1"/>
          <a:stretch/>
        </p:blipFill>
        <p:spPr>
          <a:xfrm>
            <a:off x="0" y="0"/>
            <a:ext cx="12193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523880" y="533160"/>
            <a:ext cx="563904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99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78d37"/>
                </a:solidFill>
                <a:latin typeface="Arial"/>
              </a:rPr>
              <a:t>Ciri-ciri Standard Prestasi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erangan generik tentang tahap pertumbuhan murid dalam pembelaja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tang apa yang murid patut tahu dan boleh buat pada suatu ketika tertentu semasa proses pembelajaran dan di akhir unit pembelajar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mej holisti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iap band menunjukkan pertumbuhan murid dalam pembelajaran dan pertumbuhan ini diterangkan dengan deskriptor dan evid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yang boleh ditaksir dan dicap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mbuhan secara menegak dan menguf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rat FPK dan Hasil Pembelaja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A:\lpcolor.jpg"/>
          <p:cNvPicPr/>
          <p:nvPr/>
        </p:nvPicPr>
        <p:blipFill>
          <a:blip r:embed="rId1"/>
          <a:stretch/>
        </p:blipFill>
        <p:spPr>
          <a:xfrm>
            <a:off x="0" y="0"/>
            <a:ext cx="12193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01064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3300"/>
                </a:solidFill>
                <a:latin typeface="Arial"/>
              </a:rPr>
              <a:t>Band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u label yang digunakan untuk menunjukkan tanda aras terten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usun secara hierar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unakan untuk tujuan pelapo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Band 1, Band 2, Band 3, Band 4, Band 5, Band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66680" y="1295280"/>
            <a:ext cx="693432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STANDARD PRESTASI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524" name="Picture 4" descr="A:\lpcolor.jpg"/>
          <p:cNvPicPr/>
          <p:nvPr/>
        </p:nvPicPr>
        <p:blipFill>
          <a:blip r:embed="rId1"/>
          <a:stretch/>
        </p:blipFill>
        <p:spPr>
          <a:xfrm>
            <a:off x="0" y="0"/>
            <a:ext cx="12193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Group 61" descr=""/>
          <p:cNvPicPr/>
          <p:nvPr/>
        </p:nvPicPr>
        <p:blipFill>
          <a:blip r:embed="rId1"/>
          <a:stretch/>
        </p:blipFill>
        <p:spPr>
          <a:xfrm>
            <a:off x="762120" y="1146240"/>
            <a:ext cx="7772400" cy="5310000"/>
          </a:xfrm>
          <a:prstGeom prst="rect">
            <a:avLst/>
          </a:prstGeom>
          <a:ln w="0">
            <a:noFill/>
          </a:ln>
        </p:spPr>
      </p:pic>
      <p:grpSp>
        <p:nvGrpSpPr>
          <p:cNvPr id="526" name="AutoShape 46"/>
          <p:cNvGrpSpPr/>
          <p:nvPr/>
        </p:nvGrpSpPr>
        <p:grpSpPr>
          <a:xfrm>
            <a:off x="244440" y="1335240"/>
            <a:ext cx="498600" cy="5078160"/>
            <a:chOff x="244440" y="1335240"/>
            <a:chExt cx="498600" cy="5078160"/>
          </a:xfrm>
        </p:grpSpPr>
        <p:pic>
          <p:nvPicPr>
            <p:cNvPr id="527" name="AutoShape 46" descr=""/>
            <p:cNvPicPr/>
            <p:nvPr/>
          </p:nvPicPr>
          <p:blipFill>
            <a:blip r:embed="rId2"/>
            <a:stretch/>
          </p:blipFill>
          <p:spPr>
            <a:xfrm>
              <a:off x="244440" y="1335240"/>
              <a:ext cx="498600" cy="50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"/>
            <p:cNvSpPr/>
            <p:nvPr/>
          </p:nvSpPr>
          <p:spPr>
            <a:xfrm>
              <a:off x="399960" y="1893960"/>
              <a:ext cx="190440" cy="443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AutoShape 55"/>
          <p:cNvGrpSpPr/>
          <p:nvPr/>
        </p:nvGrpSpPr>
        <p:grpSpPr>
          <a:xfrm>
            <a:off x="7102440" y="3846600"/>
            <a:ext cx="816120" cy="2573280"/>
            <a:chOff x="7102440" y="3846600"/>
            <a:chExt cx="816120" cy="2573280"/>
          </a:xfrm>
        </p:grpSpPr>
        <p:pic>
          <p:nvPicPr>
            <p:cNvPr id="530" name="AutoShape 55" descr=""/>
            <p:cNvPicPr/>
            <p:nvPr/>
          </p:nvPicPr>
          <p:blipFill>
            <a:blip r:embed="rId3"/>
            <a:stretch/>
          </p:blipFill>
          <p:spPr>
            <a:xfrm>
              <a:off x="7102440" y="3846600"/>
              <a:ext cx="816120" cy="25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"/>
            <p:cNvSpPr/>
            <p:nvPr/>
          </p:nvSpPr>
          <p:spPr>
            <a:xfrm>
              <a:off x="7162920" y="3970440"/>
              <a:ext cx="226800" cy="22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2" name="Text Box 56" descr=""/>
          <p:cNvPicPr/>
          <p:nvPr/>
        </p:nvPicPr>
        <p:blipFill>
          <a:blip r:embed="rId4"/>
          <a:stretch/>
        </p:blipFill>
        <p:spPr>
          <a:xfrm>
            <a:off x="7815240" y="4705200"/>
            <a:ext cx="1461960" cy="702000"/>
          </a:xfrm>
          <a:prstGeom prst="rect">
            <a:avLst/>
          </a:prstGeom>
          <a:ln w="0">
            <a:noFill/>
          </a:ln>
        </p:spPr>
      </p:pic>
      <p:grpSp>
        <p:nvGrpSpPr>
          <p:cNvPr id="533" name="TextBox 5"/>
          <p:cNvGrpSpPr/>
          <p:nvPr/>
        </p:nvGrpSpPr>
        <p:grpSpPr>
          <a:xfrm>
            <a:off x="933480" y="-19080"/>
            <a:ext cx="7734240" cy="1122480"/>
            <a:chOff x="933480" y="-19080"/>
            <a:chExt cx="7734240" cy="1122480"/>
          </a:xfrm>
        </p:grpSpPr>
        <p:pic>
          <p:nvPicPr>
            <p:cNvPr id="534" name="TextBox 5" descr=""/>
            <p:cNvPicPr/>
            <p:nvPr/>
          </p:nvPicPr>
          <p:blipFill>
            <a:blip r:embed="rId5"/>
            <a:stretch/>
          </p:blipFill>
          <p:spPr>
            <a:xfrm>
              <a:off x="933480" y="-19080"/>
              <a:ext cx="773424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990720" y="76320"/>
              <a:ext cx="7619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TANDARD PRESTAS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(Performance Standard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523880" y="533160"/>
            <a:ext cx="5639040" cy="533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99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8d37"/>
                </a:solidFill>
                <a:latin typeface="Arial"/>
              </a:rPr>
              <a:t>Band 1 : Tahu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Band 1 adalah pada peringkat murid-murid tahu perkara asas, atau boleh melakukan kemahiran asas atau memberi respons terhadap perkara-perkara yang as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gingat semula / Menyatakan / Mempamerkan apa yang telah dipelaj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4" descr="A:\lpcolor.jpg"/>
          <p:cNvPicPr/>
          <p:nvPr/>
        </p:nvPicPr>
        <p:blipFill>
          <a:blip r:embed="rId1"/>
          <a:stretch/>
        </p:blipFill>
        <p:spPr>
          <a:xfrm>
            <a:off x="0" y="0"/>
            <a:ext cx="12193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523880" y="533160"/>
            <a:ext cx="5639040" cy="533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99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8d37"/>
                </a:solidFill>
                <a:latin typeface="Arial"/>
              </a:rPr>
              <a:t>Band 2 : Tahu dan Faham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mpunyai kefahaman untuk menukar bentuk komunikasi, menjelaskan apa yang murid tah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4" descr="A:\lpcolor.jpg"/>
          <p:cNvPicPr/>
          <p:nvPr/>
        </p:nvPicPr>
        <p:blipFill>
          <a:blip r:embed="rId1"/>
          <a:stretch/>
        </p:blipFill>
        <p:spPr>
          <a:xfrm>
            <a:off x="0" y="0"/>
            <a:ext cx="12193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523880" y="533160"/>
            <a:ext cx="5639040" cy="533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99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8d37"/>
                </a:solidFill>
                <a:latin typeface="Arial"/>
              </a:rPr>
              <a:t>Band 3 : Tahu, Faham dan Boleh Buat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Arial"/>
              </a:rPr>
              <a:t>Murid-murid sudah boleh menggunakan pengetahuan untuk melaksanakan sesuatu kemahira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ada suatu situas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4" descr="A:\lpcolor.jpg"/>
          <p:cNvPicPr/>
          <p:nvPr/>
        </p:nvPicPr>
        <p:blipFill>
          <a:blip r:embed="rId1"/>
          <a:stretch/>
        </p:blipFill>
        <p:spPr>
          <a:xfrm>
            <a:off x="0" y="0"/>
            <a:ext cx="12193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6553440" cy="1295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99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8d37"/>
                </a:solidFill>
                <a:latin typeface="Arial"/>
              </a:rPr>
              <a:t>Band 4 : </a:t>
            </a:r>
            <a:br>
              <a:rPr sz="2400"/>
            </a:br>
            <a:r>
              <a:rPr b="0" lang="en-US" sz="2400" spc="-1" strike="noStrike">
                <a:solidFill>
                  <a:srgbClr val="378d37"/>
                </a:solidFill>
                <a:latin typeface="Arial"/>
              </a:rPr>
              <a:t>Tahu, Faham dan Boleh Buat Dengan Beradab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3059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urid-murid melaksanakan sesuatu kemahiran dengan beradab, iaitu mengikut prosed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au secara sistemat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4" descr="A:\lpcolor.jpg"/>
          <p:cNvPicPr/>
          <p:nvPr/>
        </p:nvPicPr>
        <p:blipFill>
          <a:blip r:embed="rId1"/>
          <a:stretch/>
        </p:blipFill>
        <p:spPr>
          <a:xfrm>
            <a:off x="0" y="0"/>
            <a:ext cx="12193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6553440" cy="1295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99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8d37"/>
                </a:solidFill>
                <a:latin typeface="Arial"/>
              </a:rPr>
              <a:t>Band 5 : </a:t>
            </a:r>
            <a:br>
              <a:rPr sz="2400"/>
            </a:br>
            <a:r>
              <a:rPr b="0" lang="en-US" sz="2400" spc="-1" strike="noStrike">
                <a:solidFill>
                  <a:srgbClr val="378d37"/>
                </a:solidFill>
                <a:latin typeface="Arial"/>
              </a:rPr>
              <a:t>Tahu, Faham dan Boleh Buat Dengan Beradab Terpuji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3059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urid-murid melaksanakan sesuatu kemahiran pada situasi baru, dengan mengikut prosed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au secara sistematik dan bersikap posit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4" descr="A:\lpcolor.jpg"/>
          <p:cNvPicPr/>
          <p:nvPr/>
        </p:nvPicPr>
        <p:blipFill>
          <a:blip r:embed="rId1"/>
          <a:stretch/>
        </p:blipFill>
        <p:spPr>
          <a:xfrm>
            <a:off x="0" y="0"/>
            <a:ext cx="12193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6553440" cy="1295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99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8d37"/>
                </a:solidFill>
                <a:latin typeface="Arial"/>
              </a:rPr>
              <a:t>Band 6 : </a:t>
            </a:r>
            <a:br>
              <a:rPr sz="2400"/>
            </a:br>
            <a:r>
              <a:rPr b="0" lang="en-US" sz="2400" spc="-1" strike="noStrike">
                <a:solidFill>
                  <a:srgbClr val="378d37"/>
                </a:solidFill>
                <a:latin typeface="Arial"/>
              </a:rPr>
              <a:t>Tahu, Faham dan Boleh Buat Dengan Beradab Mithali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3059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Arial"/>
              </a:rPr>
              <a:t>Murid-murid melaksanakan sesuatu kemahiran pada situasi baru, dengan mengikut prosed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au secara sistematik, bersikap positif dan berupaya menjadi cont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4" descr="A:\lpcolor.jpg"/>
          <p:cNvPicPr/>
          <p:nvPr/>
        </p:nvPicPr>
        <p:blipFill>
          <a:blip r:embed="rId1"/>
          <a:stretch/>
        </p:blipFill>
        <p:spPr>
          <a:xfrm>
            <a:off x="0" y="0"/>
            <a:ext cx="121932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3"/>
          <p:cNvSpPr/>
          <p:nvPr/>
        </p:nvSpPr>
        <p:spPr>
          <a:xfrm>
            <a:off x="990720" y="60948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PENTAKSIR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057400" y="1981080"/>
            <a:ext cx="6934320" cy="36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Pengumpulan maklumat bertujuan untuk mengetah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APA yang murid TA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APA yang murid BOLEH BU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APA yang murid BOLEH AMALK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" descr="A:\lpcolor.jpg"/>
          <p:cNvPicPr/>
          <p:nvPr/>
        </p:nvPicPr>
        <p:blipFill>
          <a:blip r:embed="rId1"/>
          <a:stretch/>
        </p:blipFill>
        <p:spPr>
          <a:xfrm>
            <a:off x="0" y="0"/>
            <a:ext cx="12193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4" name=""/>
          <p:cNvGraphicFramePr/>
          <p:nvPr/>
        </p:nvGraphicFramePr>
        <p:xfrm>
          <a:off x="457200" y="1523880"/>
          <a:ext cx="8458200" cy="4111920"/>
        </p:xfrm>
        <a:graphic>
          <a:graphicData uri="http://schemas.openxmlformats.org/drawingml/2006/table">
            <a:tbl>
              <a:tblPr/>
              <a:tblGrid>
                <a:gridCol w="1981080"/>
                <a:gridCol w="2248200"/>
                <a:gridCol w="1942920"/>
                <a:gridCol w="2286000"/>
              </a:tblGrid>
              <a:tr h="84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a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tandar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eskripto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viden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erangan generik / umum tentang tahap pertumbuhan pembelajaran (Objektif mata pelajara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PA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murid tahu dan boleh buat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(mata pelajaran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BAGAIMANA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murid menunjukkan apa yang dia tahu dan boleh bua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5" name="AutoShape 19"/>
          <p:cNvSpPr/>
          <p:nvPr/>
        </p:nvSpPr>
        <p:spPr>
          <a:xfrm>
            <a:off x="762120" y="2438280"/>
            <a:ext cx="457200" cy="2971800"/>
          </a:xfrm>
          <a:custGeom>
            <a:avLst/>
            <a:gdLst>
              <a:gd name="textAreaLeft" fmla="*/ 0 w 457200"/>
              <a:gd name="textAreaRight" fmla="*/ 164880 w 4572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20"/>
          <p:cNvSpPr/>
          <p:nvPr/>
        </p:nvSpPr>
        <p:spPr>
          <a:xfrm>
            <a:off x="1295280" y="3657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m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22" descr="A:\lpcolor.jpg"/>
          <p:cNvPicPr/>
          <p:nvPr/>
        </p:nvPicPr>
        <p:blipFill>
          <a:blip r:embed="rId1"/>
          <a:stretch/>
        </p:blipFill>
        <p:spPr>
          <a:xfrm>
            <a:off x="0" y="0"/>
            <a:ext cx="12193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8" name=""/>
          <p:cNvGraphicFramePr/>
          <p:nvPr/>
        </p:nvGraphicFramePr>
        <p:xfrm>
          <a:off x="533520" y="304920"/>
          <a:ext cx="8305560" cy="4775040"/>
        </p:xfrm>
        <a:graphic>
          <a:graphicData uri="http://schemas.openxmlformats.org/drawingml/2006/table">
            <a:tbl>
              <a:tblPr/>
              <a:tblGrid>
                <a:gridCol w="1331640"/>
                <a:gridCol w="697392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NYATAAN STANDARD PRESTA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89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nd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0066"/>
                        </a:buClr>
                        <a:buSzPct val="70000"/>
                        <a:buFont typeface="Arial"/>
                        <a:buAutoNum type="arabicPlain"/>
                        <a:tabLst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378d37"/>
                          </a:solidFill>
                          <a:uFillTx/>
                          <a:latin typeface="Arial"/>
                        </a:rPr>
                        <a:t>PERINGAT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ERNYATAAN STANDARD bagi sesuatu mata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elajaran mesti boleh digunapakai dari Tahun 1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ingga Tahun 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(Rujuk Objektif Mata Pelajara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SKRIPTOR adalah berdasarkan tahun –tahun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erten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(Rujuk Kurikulum Standard Tahun berkenaa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nd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nd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nd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nd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nd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9" name=""/>
          <p:cNvGraphicFramePr/>
          <p:nvPr/>
        </p:nvGraphicFramePr>
        <p:xfrm>
          <a:off x="533520" y="304920"/>
          <a:ext cx="8305560" cy="5668920"/>
        </p:xfrm>
        <a:graphic>
          <a:graphicData uri="http://schemas.openxmlformats.org/drawingml/2006/table">
            <a:tbl>
              <a:tblPr/>
              <a:tblGrid>
                <a:gridCol w="1331640"/>
                <a:gridCol w="697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OH PERNYATAAN STANDARD PRESTA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TEMAT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nd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&amp;F&amp;BB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ms-M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guasai dan mengaplikasi pengetahuan dan kemahiran matematik dalam</a:t>
                      </a:r>
                      <a:r>
                        <a:rPr b="0" i="1" lang="ms-M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ms-M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yelesaikan  masalah matematik</a:t>
                      </a:r>
                      <a:r>
                        <a:rPr b="0" i="1" lang="ms-M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ms-M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ang kompleks</a:t>
                      </a:r>
                      <a:r>
                        <a:rPr b="0" i="1" lang="ms-M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ms-MY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ecara kreatif dan inovat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nd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&amp;F&amp;BB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ms-M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guasai dan mengaplikasi pengetahuan dan kemahiran matematik dalam</a:t>
                      </a:r>
                      <a:r>
                        <a:rPr b="0" i="1" lang="ms-M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ms-M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yelesaikan masalah matematik yang kompleks</a:t>
                      </a:r>
                      <a:r>
                        <a:rPr b="0" i="1" lang="ms-M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ms-MY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engan menggunakan</a:t>
                      </a:r>
                      <a:r>
                        <a:rPr b="0" i="1" lang="ms-MY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r>
                        <a:rPr b="1" i="1" lang="ms-MY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pelbagai strateg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nd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&amp;F&amp;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ms-M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hu dan faham pengetahuan matematik bagi melakukan </a:t>
                      </a:r>
                      <a:r>
                        <a:rPr b="1" i="1" lang="ms-MY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langkah-langkah pengiraan matematik secara terbimbing</a:t>
                      </a:r>
                      <a:r>
                        <a:rPr b="1" i="1" lang="ms-M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i="1" lang="ms-MY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enukaran</a:t>
                      </a:r>
                      <a:r>
                        <a:rPr b="1" i="1" lang="ms-M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an </a:t>
                      </a:r>
                      <a:r>
                        <a:rPr b="1" i="1" lang="ms-MY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menyelesaikan masalah matematik muda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nd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&amp;F&amp;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ms-M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hu dan faham pengetahuan asas matematik  dan boleh </a:t>
                      </a:r>
                      <a:r>
                        <a:rPr b="1" i="1" lang="ms-MY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melakukan operasi asas matematik</a:t>
                      </a:r>
                      <a:r>
                        <a:rPr b="1" i="1" lang="ms-M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i="1" lang="ms-MY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enukaran asas</a:t>
                      </a:r>
                      <a:r>
                        <a:rPr b="1" i="1" lang="ms-M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an </a:t>
                      </a:r>
                      <a:r>
                        <a:rPr b="1" i="1" lang="ms-MY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menyelesaikan masalah yang melibatkan perkata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nd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 &amp;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ms-M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hu</a:t>
                      </a:r>
                      <a:r>
                        <a:rPr b="0" i="1" lang="ms-M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an </a:t>
                      </a:r>
                      <a:r>
                        <a:rPr b="1" i="1" lang="ms-M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ham</a:t>
                      </a:r>
                      <a:r>
                        <a:rPr b="0" i="1" lang="ms-M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engetahuan asas matemati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nd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ms-M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hu</a:t>
                      </a:r>
                      <a:r>
                        <a:rPr b="0" i="1" lang="ms-M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engetahuan asas matemati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0" name=""/>
          <p:cNvGraphicFramePr/>
          <p:nvPr/>
        </p:nvGraphicFramePr>
        <p:xfrm>
          <a:off x="533520" y="304920"/>
          <a:ext cx="8305560" cy="5991120"/>
        </p:xfrm>
        <a:graphic>
          <a:graphicData uri="http://schemas.openxmlformats.org/drawingml/2006/table">
            <a:tbl>
              <a:tblPr/>
              <a:tblGrid>
                <a:gridCol w="1331640"/>
                <a:gridCol w="697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OH PERNYATAAN STANDARD PRESTA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DIDIKAN JASMA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89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nd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&amp;F&amp;BB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ms-MY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perkembangkan pengetahuan dan kemahiran </a:t>
                      </a:r>
                      <a:r>
                        <a:rPr b="1" i="1" lang="ms-MY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ecara sistematik dan berterusan serta menjana kreativiti minda</a:t>
                      </a:r>
                      <a:r>
                        <a:rPr b="1" i="1" lang="ms-MY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enjurus kepada gaya hidup sihat untuk kesejahtera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nd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&amp;F&amp;BB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ms-MY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guasai dan mengaplikasikan pengetahuan dan kebolehan </a:t>
                      </a:r>
                      <a:r>
                        <a:rPr b="1" i="1" lang="ms-MY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tas kesedaran kepentingan melakukan pergerakan dan aktiviti fizikal</a:t>
                      </a:r>
                      <a:r>
                        <a:rPr b="1" i="1" lang="ms-MY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ntuk meningkatkan kemahiran dan kecergasan dan melakukannya </a:t>
                      </a:r>
                      <a:r>
                        <a:rPr b="1" i="1" lang="ms-MY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ecara seronok, mengamalkan langkah-langkah keselamatan dan mempamerkan tanggungjawab kendi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nd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&amp;F&amp;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ms-MY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hu, faham dan boleh mengaplikasikan pengetahuan dan kebolehan untuk melakukan pergerakan dan aktiviti yang dapat </a:t>
                      </a:r>
                      <a:r>
                        <a:rPr b="1" i="1" lang="ms-MY" sz="1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mengekalkan dan meningkatkan kemahiran dan kecergas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nd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&amp;F&amp;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ms-MY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hu, faham dan boleh mengembangkan pengetahuan dan kebolehan dalam kemahiran pergerakan dan kecergasan </a:t>
                      </a:r>
                      <a:r>
                        <a:rPr b="1" i="1" lang="ms-MY" sz="1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mengikut konsep pergerakan dan konsep kecergas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nd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 &amp;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ms-MY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hu dan faham melakukan kemahiran pergerakan dan aktiviti fizikal </a:t>
                      </a:r>
                      <a:r>
                        <a:rPr b="1" i="1" lang="ms-MY" sz="16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berkaitan kecergas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nd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ms-MY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hu melakukan kemahiran pergerakan dan aktiviti fizikal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1" name=""/>
          <p:cNvGraphicFramePr/>
          <p:nvPr/>
        </p:nvGraphicFramePr>
        <p:xfrm>
          <a:off x="533520" y="228600"/>
          <a:ext cx="8305560" cy="6643800"/>
        </p:xfrm>
        <a:graphic>
          <a:graphicData uri="http://schemas.openxmlformats.org/drawingml/2006/table">
            <a:tbl>
              <a:tblPr/>
              <a:tblGrid>
                <a:gridCol w="1331640"/>
                <a:gridCol w="697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OH PERNYATAAN STANDARD PRESTA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HASA MELAY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143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nd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&amp;F&amp;BB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Berbincang untuk menyampaikan maklumat atau pendapat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aca bahan bacaan secara ekstensif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enulis ulasan daripada pelbagai bahan bacaan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nd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&amp;F&amp;BB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cc00cc"/>
                          </a:solidFill>
                          <a:latin typeface="Arial"/>
                        </a:rPr>
                        <a:t>Bercerita dan menceritakan sesuatu perkara semula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aca dan menaakul pelbagai baha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enghasilkan penulisan dan mengedit hasil penulisan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nd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&amp;F&amp;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eri respons terhadap </a:t>
                      </a:r>
                      <a:r>
                        <a:rPr b="1" i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aklumat yang didengar, </a:t>
                      </a:r>
                      <a:r>
                        <a:rPr b="1" i="1" lang="en-US" sz="1800" spc="-1" strike="noStrike">
                          <a:solidFill>
                            <a:srgbClr val="378d37"/>
                          </a:solidFill>
                          <a:latin typeface="Arial"/>
                        </a:rPr>
                        <a:t>dibaca </a:t>
                      </a:r>
                      <a:r>
                        <a:rPr b="1" i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an ditulis dalam pelbagai situa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nd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&amp;F&amp;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eri respons terhadap </a:t>
                      </a:r>
                      <a:r>
                        <a:rPr b="1" i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esuatu perkara yang didengar dan ditul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78d37"/>
                          </a:solidFill>
                          <a:latin typeface="Arial"/>
                        </a:rPr>
                        <a:t>Membaca bahan bacaan secara mekanis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nd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 &amp;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getahui dan </a:t>
                      </a:r>
                      <a:r>
                        <a:rPr b="1" i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memahami perkara yang didengar, disebut, dibaca dan ditulis.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nd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getahui </a:t>
                      </a:r>
                      <a:r>
                        <a:rPr b="1" i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asas mendengar , bertutur, membaca dan menul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2" name=""/>
          <p:cNvGraphicFramePr/>
          <p:nvPr/>
        </p:nvGraphicFramePr>
        <p:xfrm>
          <a:off x="533520" y="304920"/>
          <a:ext cx="8305560" cy="5715000"/>
        </p:xfrm>
        <a:graphic>
          <a:graphicData uri="http://schemas.openxmlformats.org/drawingml/2006/table">
            <a:tbl>
              <a:tblPr/>
              <a:tblGrid>
                <a:gridCol w="1331640"/>
                <a:gridCol w="697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OH PERNYATAAN STANDARD PRESTA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HASA AR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88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nd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&amp;F&amp;BB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ms-MY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ggunakan bahasa Arab mengikut kaedah tatabahasa dan situasi yang betul.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nd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&amp;F&amp;BB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v-S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dengar, menyebut dan membezakan ayat yang didengar dengan betu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G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aca dan menulis ayat dengan betul.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nd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&amp;F&amp;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v-S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eri respons terhadap ungkapan (</a:t>
                      </a:r>
                      <a:r>
                        <a:rPr b="1" i="1" lang="ar-S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عبارات</a:t>
                      </a:r>
                      <a:r>
                        <a:rPr b="1" i="1" lang="sv-S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yang didengar, dibaca dan ditulis dalam pelbagai situsasi.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nd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&amp;F&amp;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eri respons terhadap sesuatu perkara yang didengar dan dituli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G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baca dan membezakan sebutan bacaan.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nd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 &amp;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v-S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getahui, memahami dan membezakan perkara yang didengar, disebut dan ditulis.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nd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G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getahui asas mendengar, bertutur, membaca dan menuli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3" name=""/>
          <p:cNvGraphicFramePr/>
          <p:nvPr/>
        </p:nvGraphicFramePr>
        <p:xfrm>
          <a:off x="228600" y="457200"/>
          <a:ext cx="8610480" cy="5477040"/>
        </p:xfrm>
        <a:graphic>
          <a:graphicData uri="http://schemas.openxmlformats.org/drawingml/2006/table">
            <a:tbl>
              <a:tblPr/>
              <a:tblGrid>
                <a:gridCol w="614520"/>
                <a:gridCol w="1170000"/>
                <a:gridCol w="577800"/>
                <a:gridCol w="609480"/>
                <a:gridCol w="609480"/>
                <a:gridCol w="533520"/>
                <a:gridCol w="609480"/>
                <a:gridCol w="609840"/>
                <a:gridCol w="609480"/>
                <a:gridCol w="533520"/>
                <a:gridCol w="533160"/>
                <a:gridCol w="533520"/>
                <a:gridCol w="533520"/>
                <a:gridCol w="533160"/>
              </a:tblGrid>
              <a:tr h="838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nyataan Stand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ahun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Tahun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Tahun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Tahun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78d37"/>
                          </a:solidFill>
                          <a:latin typeface="Arial"/>
                        </a:rPr>
                        <a:t>Tahun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78d37"/>
                          </a:solidFill>
                          <a:latin typeface="Arial"/>
                        </a:rPr>
                        <a:t>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ahun 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4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78d37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78d37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78d37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78d37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78d37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78d37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3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78d37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78d37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78d37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78d37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3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78d37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78d37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4" name="Text Box 207"/>
          <p:cNvSpPr/>
          <p:nvPr/>
        </p:nvSpPr>
        <p:spPr>
          <a:xfrm>
            <a:off x="525240" y="5979960"/>
            <a:ext cx="809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a : Pernyataan Standard yang sama digunapakai untuk Tahun 1 – Tahun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kriptor (D) dan Evidens (E) merujuk HSP tahun-tahun berken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5" name=""/>
          <p:cNvGraphicFramePr/>
          <p:nvPr/>
        </p:nvGraphicFramePr>
        <p:xfrm>
          <a:off x="228600" y="1066680"/>
          <a:ext cx="8686800" cy="5334120"/>
        </p:xfrm>
        <a:graphic>
          <a:graphicData uri="http://schemas.openxmlformats.org/drawingml/2006/table">
            <a:tbl>
              <a:tblPr/>
              <a:tblGrid>
                <a:gridCol w="2035080"/>
                <a:gridCol w="2308320"/>
                <a:gridCol w="1995480"/>
                <a:gridCol w="23479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an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tandar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eskripto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Eviden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B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(Bahasa Melayu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D1E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D1E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Matematik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1E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1E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2E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a9711"/>
                          </a:solidFill>
                          <a:latin typeface="Arial"/>
                        </a:rPr>
                        <a:t>B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a9711"/>
                          </a:solidFill>
                          <a:latin typeface="Arial"/>
                        </a:rPr>
                        <a:t>(Pendidikan Mora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a9711"/>
                          </a:solidFill>
                          <a:latin typeface="Arial"/>
                        </a:rPr>
                        <a:t>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a9711"/>
                          </a:solidFill>
                          <a:latin typeface="Arial"/>
                        </a:rPr>
                        <a:t>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a9711"/>
                          </a:solidFill>
                          <a:latin typeface="Arial"/>
                        </a:rPr>
                        <a:t>D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a9711"/>
                          </a:solidFill>
                          <a:latin typeface="Arial"/>
                        </a:rPr>
                        <a:t>D1E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a9711"/>
                          </a:solidFill>
                          <a:latin typeface="Arial"/>
                        </a:rPr>
                        <a:t>D1E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a9711"/>
                          </a:solidFill>
                          <a:latin typeface="Arial"/>
                        </a:rPr>
                        <a:t>D1E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a9711"/>
                          </a:solidFill>
                          <a:latin typeface="Arial"/>
                        </a:rPr>
                        <a:t>D2E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a9711"/>
                          </a:solidFill>
                          <a:latin typeface="Arial"/>
                        </a:rPr>
                        <a:t>D2E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a9711"/>
                          </a:solidFill>
                          <a:latin typeface="Arial"/>
                        </a:rPr>
                        <a:t>D3E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a9711"/>
                          </a:solidFill>
                          <a:latin typeface="Arial"/>
                        </a:rPr>
                        <a:t>D3E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4a9711"/>
                          </a:solidFill>
                          <a:latin typeface="Arial"/>
                        </a:rPr>
                        <a:t>D3E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6" name=""/>
          <p:cNvSpPr/>
          <p:nvPr/>
        </p:nvSpPr>
        <p:spPr>
          <a:xfrm>
            <a:off x="3795480" y="49356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O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Group 1"/>
          <p:cNvGrpSpPr/>
          <p:nvPr/>
        </p:nvGrpSpPr>
        <p:grpSpPr>
          <a:xfrm>
            <a:off x="914400" y="1219320"/>
            <a:ext cx="7772400" cy="5443200"/>
            <a:chOff x="914400" y="1219320"/>
            <a:chExt cx="7772400" cy="5443200"/>
          </a:xfrm>
        </p:grpSpPr>
        <p:sp>
          <p:nvSpPr>
            <p:cNvPr id="568" name="Line 23"/>
            <p:cNvSpPr/>
            <p:nvPr/>
          </p:nvSpPr>
          <p:spPr>
            <a:xfrm>
              <a:off x="3992400" y="1702080"/>
              <a:ext cx="0" cy="45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AutoShape 22"/>
            <p:cNvSpPr/>
            <p:nvPr/>
          </p:nvSpPr>
          <p:spPr>
            <a:xfrm>
              <a:off x="3583800" y="1238760"/>
              <a:ext cx="820800" cy="548640"/>
            </a:xfrm>
            <a:prstGeom prst="flowChartProcess">
              <a:avLst/>
            </a:prstGeom>
            <a:solidFill>
              <a:srgbClr val="ffffff"/>
            </a:solidFill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Text Box 21" descr=""/>
            <p:cNvPicPr/>
            <p:nvPr/>
          </p:nvPicPr>
          <p:blipFill>
            <a:blip r:embed="rId1"/>
            <a:stretch/>
          </p:blipFill>
          <p:spPr>
            <a:xfrm>
              <a:off x="4459680" y="1219320"/>
              <a:ext cx="2880720" cy="81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Text Box 20" descr=""/>
            <p:cNvPicPr/>
            <p:nvPr/>
          </p:nvPicPr>
          <p:blipFill>
            <a:blip r:embed="rId2"/>
            <a:stretch/>
          </p:blipFill>
          <p:spPr>
            <a:xfrm>
              <a:off x="4459680" y="2080800"/>
              <a:ext cx="4227120" cy="6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AutoShape 19"/>
            <p:cNvSpPr/>
            <p:nvPr/>
          </p:nvSpPr>
          <p:spPr>
            <a:xfrm>
              <a:off x="3583800" y="2156400"/>
              <a:ext cx="820800" cy="549000"/>
            </a:xfrm>
            <a:prstGeom prst="flowChartProcess">
              <a:avLst/>
            </a:prstGeom>
            <a:solidFill>
              <a:srgbClr val="ffffff"/>
            </a:solidFill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AutoShape 18"/>
            <p:cNvSpPr/>
            <p:nvPr/>
          </p:nvSpPr>
          <p:spPr>
            <a:xfrm>
              <a:off x="3583800" y="3254400"/>
              <a:ext cx="820800" cy="549000"/>
            </a:xfrm>
            <a:prstGeom prst="flowChartProcess">
              <a:avLst/>
            </a:prstGeom>
            <a:solidFill>
              <a:srgbClr val="ffffff"/>
            </a:solidFill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AutoShape 17"/>
            <p:cNvSpPr/>
            <p:nvPr/>
          </p:nvSpPr>
          <p:spPr>
            <a:xfrm>
              <a:off x="3588480" y="5879160"/>
              <a:ext cx="820800" cy="548640"/>
            </a:xfrm>
            <a:prstGeom prst="flowChartProcess">
              <a:avLst/>
            </a:prstGeom>
            <a:solidFill>
              <a:srgbClr val="ffffff"/>
            </a:solidFill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AutoShape 16"/>
            <p:cNvSpPr/>
            <p:nvPr/>
          </p:nvSpPr>
          <p:spPr>
            <a:xfrm>
              <a:off x="3466800" y="4358880"/>
              <a:ext cx="1055520" cy="960480"/>
            </a:xfrm>
            <a:prstGeom prst="flowChartDecision">
              <a:avLst/>
            </a:prstGeom>
            <a:solidFill>
              <a:srgbClr val="ffffff"/>
            </a:solidFill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6" name="Text Box 15" descr=""/>
            <p:cNvPicPr/>
            <p:nvPr/>
          </p:nvPicPr>
          <p:blipFill>
            <a:blip r:embed="rId3"/>
            <a:stretch/>
          </p:blipFill>
          <p:spPr>
            <a:xfrm>
              <a:off x="4459680" y="5673600"/>
              <a:ext cx="4227120" cy="98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Text Box 14"/>
            <p:cNvSpPr/>
            <p:nvPr/>
          </p:nvSpPr>
          <p:spPr>
            <a:xfrm>
              <a:off x="914400" y="4229280"/>
              <a:ext cx="2055600" cy="7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SimSun"/>
                </a:rPr>
                <a:t>Belum mencapa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SimSun"/>
                </a:rPr>
                <a:t>tahap penguasaa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 Box 13"/>
            <p:cNvSpPr/>
            <p:nvPr/>
          </p:nvSpPr>
          <p:spPr>
            <a:xfrm>
              <a:off x="2057040" y="5215320"/>
              <a:ext cx="2359800" cy="76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SimSun"/>
                </a:rPr>
                <a:t>Telah mencapa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SimSun"/>
                </a:rPr>
                <a:t>Tahap penguasa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12"/>
            <p:cNvSpPr/>
            <p:nvPr/>
          </p:nvSpPr>
          <p:spPr>
            <a:xfrm>
              <a:off x="3987000" y="2705760"/>
              <a:ext cx="0" cy="548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11"/>
            <p:cNvSpPr/>
            <p:nvPr/>
          </p:nvSpPr>
          <p:spPr>
            <a:xfrm>
              <a:off x="3996360" y="3803760"/>
              <a:ext cx="0" cy="54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Line 10"/>
            <p:cNvSpPr/>
            <p:nvPr/>
          </p:nvSpPr>
          <p:spPr>
            <a:xfrm>
              <a:off x="4006080" y="5313240"/>
              <a:ext cx="0" cy="54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9"/>
            <p:cNvSpPr/>
            <p:nvPr/>
          </p:nvSpPr>
          <p:spPr>
            <a:xfrm>
              <a:off x="2921040" y="3580560"/>
              <a:ext cx="66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8"/>
            <p:cNvSpPr/>
            <p:nvPr/>
          </p:nvSpPr>
          <p:spPr>
            <a:xfrm flipH="1">
              <a:off x="2645640" y="4834800"/>
              <a:ext cx="82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4" name="Text Box 7" descr=""/>
            <p:cNvPicPr/>
            <p:nvPr/>
          </p:nvPicPr>
          <p:blipFill>
            <a:blip r:embed="rId4"/>
            <a:stretch/>
          </p:blipFill>
          <p:spPr>
            <a:xfrm>
              <a:off x="4532400" y="4520520"/>
              <a:ext cx="3928680" cy="77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5" name="Text Box 6" descr=""/>
            <p:cNvPicPr/>
            <p:nvPr/>
          </p:nvPicPr>
          <p:blipFill>
            <a:blip r:embed="rId5"/>
            <a:stretch/>
          </p:blipFill>
          <p:spPr>
            <a:xfrm>
              <a:off x="4459680" y="3148920"/>
              <a:ext cx="3770280" cy="94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AutoShape 5"/>
            <p:cNvSpPr/>
            <p:nvPr/>
          </p:nvSpPr>
          <p:spPr>
            <a:xfrm>
              <a:off x="2209680" y="3269160"/>
              <a:ext cx="820800" cy="548640"/>
            </a:xfrm>
            <a:prstGeom prst="flowChartProcess">
              <a:avLst/>
            </a:prstGeom>
            <a:solidFill>
              <a:srgbClr val="ffffff"/>
            </a:solidFill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Text Box 4"/>
            <p:cNvSpPr/>
            <p:nvPr/>
          </p:nvSpPr>
          <p:spPr>
            <a:xfrm>
              <a:off x="990360" y="3319200"/>
              <a:ext cx="1302840" cy="54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SimSun"/>
                </a:rPr>
                <a:t>Pemuliha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3"/>
            <p:cNvSpPr/>
            <p:nvPr/>
          </p:nvSpPr>
          <p:spPr>
            <a:xfrm flipV="1">
              <a:off x="2645640" y="3817440"/>
              <a:ext cx="0" cy="101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Text Box 2"/>
            <p:cNvSpPr/>
            <p:nvPr/>
          </p:nvSpPr>
          <p:spPr>
            <a:xfrm>
              <a:off x="3583800" y="1346760"/>
              <a:ext cx="82080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SimSun"/>
                </a:rPr>
                <a:t>MUL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Title 1"/>
          <p:cNvSpPr/>
          <p:nvPr/>
        </p:nvSpPr>
        <p:spPr>
          <a:xfrm>
            <a:off x="380880" y="3808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eranan Standard Prestasi dalam 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AutoShape 6"/>
          <p:cNvSpPr/>
          <p:nvPr/>
        </p:nvSpPr>
        <p:spPr>
          <a:xfrm>
            <a:off x="2577960" y="2819520"/>
            <a:ext cx="1905120" cy="2590560"/>
          </a:xfrm>
          <a:custGeom>
            <a:avLst/>
            <a:gdLst>
              <a:gd name="textAreaLeft" fmla="*/ 76680 w 1905120"/>
              <a:gd name="textAreaRight" fmla="*/ 1828440 w 1905120"/>
              <a:gd name="textAreaTop" fmla="*/ 76680 h 2590560"/>
              <a:gd name="textAreaBottom" fmla="*/ 2513880 h 2590560"/>
            </a:gdLst>
            <a:ahLst/>
            <a:rect l="textAreaLeft" t="textAreaTop" r="textAreaRight" b="textAreaBottom"/>
            <a:pathLst>
              <a:path w="21600" h="29370">
                <a:moveTo>
                  <a:pt x="2969" y="0"/>
                </a:moveTo>
                <a:arcTo wR="2969" hR="2969" stAng="16200000" swAng="-5400000"/>
                <a:lnTo>
                  <a:pt x="0" y="26401"/>
                </a:lnTo>
                <a:arcTo wR="2969" hR="2969" stAng="10800000" swAng="-5400000"/>
                <a:lnTo>
                  <a:pt x="18631" y="2937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b98a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31"/>
          <p:cNvSpPr/>
          <p:nvPr/>
        </p:nvSpPr>
        <p:spPr>
          <a:xfrm>
            <a:off x="2590920" y="2971800"/>
            <a:ext cx="1904760" cy="161856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mperbaiki kelemahan/ masalah murid dalam pembelajar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6"/>
          <p:cNvSpPr/>
          <p:nvPr/>
        </p:nvSpPr>
        <p:spPr>
          <a:xfrm>
            <a:off x="6705720" y="2819520"/>
            <a:ext cx="1981080" cy="2590560"/>
          </a:xfrm>
          <a:custGeom>
            <a:avLst/>
            <a:gdLst>
              <a:gd name="textAreaLeft" fmla="*/ 79560 w 1981080"/>
              <a:gd name="textAreaRight" fmla="*/ 1901520 w 1981080"/>
              <a:gd name="textAreaTop" fmla="*/ 79560 h 2590560"/>
              <a:gd name="textAreaBottom" fmla="*/ 2511000 h 2590560"/>
            </a:gdLst>
            <a:ahLst/>
            <a:rect l="textAreaLeft" t="textAreaTop" r="textAreaRight" b="textAreaBottom"/>
            <a:pathLst>
              <a:path w="21600" h="28244">
                <a:moveTo>
                  <a:pt x="2969" y="0"/>
                </a:moveTo>
                <a:arcTo wR="2969" hR="2969" stAng="16200000" swAng="-5400000"/>
                <a:lnTo>
                  <a:pt x="0" y="25275"/>
                </a:lnTo>
                <a:arcTo wR="2969" hR="2969" stAng="10800000" swAng="-5400000"/>
                <a:lnTo>
                  <a:pt x="18631" y="2824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b98a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31"/>
          <p:cNvSpPr/>
          <p:nvPr/>
        </p:nvSpPr>
        <p:spPr>
          <a:xfrm>
            <a:off x="6718320" y="2971800"/>
            <a:ext cx="1968480" cy="10087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ngubahsuai strategi pengajar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6"/>
          <p:cNvSpPr/>
          <p:nvPr/>
        </p:nvSpPr>
        <p:spPr>
          <a:xfrm>
            <a:off x="4635360" y="2819520"/>
            <a:ext cx="1905120" cy="2590560"/>
          </a:xfrm>
          <a:custGeom>
            <a:avLst/>
            <a:gdLst>
              <a:gd name="textAreaLeft" fmla="*/ 76680 w 1905120"/>
              <a:gd name="textAreaRight" fmla="*/ 1828440 w 1905120"/>
              <a:gd name="textAreaTop" fmla="*/ 76680 h 2590560"/>
              <a:gd name="textAreaBottom" fmla="*/ 2513880 h 2590560"/>
            </a:gdLst>
            <a:ahLst/>
            <a:rect l="textAreaLeft" t="textAreaTop" r="textAreaRight" b="textAreaBottom"/>
            <a:pathLst>
              <a:path w="21600" h="29370">
                <a:moveTo>
                  <a:pt x="2969" y="0"/>
                </a:moveTo>
                <a:arcTo wR="2969" hR="2969" stAng="16200000" swAng="-5400000"/>
                <a:lnTo>
                  <a:pt x="0" y="26401"/>
                </a:lnTo>
                <a:arcTo wR="2969" hR="2969" stAng="10800000" swAng="-5400000"/>
                <a:lnTo>
                  <a:pt x="18631" y="2937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19456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31"/>
          <p:cNvSpPr/>
          <p:nvPr/>
        </p:nvSpPr>
        <p:spPr>
          <a:xfrm>
            <a:off x="4648320" y="2971800"/>
            <a:ext cx="1904760" cy="131364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ningkatkan keyakinan kepada murid untuk belaj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6"/>
          <p:cNvSpPr/>
          <p:nvPr/>
        </p:nvSpPr>
        <p:spPr>
          <a:xfrm>
            <a:off x="533520" y="2819520"/>
            <a:ext cx="1904760" cy="2590560"/>
          </a:xfrm>
          <a:custGeom>
            <a:avLst/>
            <a:gdLst>
              <a:gd name="textAreaLeft" fmla="*/ 76680 w 1904760"/>
              <a:gd name="textAreaRight" fmla="*/ 1828080 w 1904760"/>
              <a:gd name="textAreaTop" fmla="*/ 76680 h 2590560"/>
              <a:gd name="textAreaBottom" fmla="*/ 2513880 h 2590560"/>
            </a:gdLst>
            <a:ahLst/>
            <a:rect l="textAreaLeft" t="textAreaTop" r="textAreaRight" b="textAreaBottom"/>
            <a:pathLst>
              <a:path w="21600" h="29376">
                <a:moveTo>
                  <a:pt x="2969" y="0"/>
                </a:moveTo>
                <a:arcTo wR="2969" hR="2969" stAng="16200000" swAng="-5400000"/>
                <a:lnTo>
                  <a:pt x="0" y="26407"/>
                </a:lnTo>
                <a:arcTo wR="2969" hR="2969" stAng="10800000" swAng="-5400000"/>
                <a:lnTo>
                  <a:pt x="18631" y="2937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19456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8"/>
          <p:cNvSpPr/>
          <p:nvPr/>
        </p:nvSpPr>
        <p:spPr>
          <a:xfrm rot="3418800">
            <a:off x="1083600" y="1808640"/>
            <a:ext cx="849240" cy="984240"/>
          </a:xfrm>
          <a:prstGeom prst="rect">
            <a:avLst/>
          </a:prstGeom>
          <a:gradFill rotWithShape="0">
            <a:gsLst>
              <a:gs pos="0">
                <a:srgbClr val="7e9ce8"/>
              </a:gs>
              <a:gs pos="100000">
                <a:srgbClr val="093c55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Group 9"/>
          <p:cNvGrpSpPr/>
          <p:nvPr/>
        </p:nvGrpSpPr>
        <p:grpSpPr>
          <a:xfrm>
            <a:off x="2054160" y="2057400"/>
            <a:ext cx="1222200" cy="152280"/>
            <a:chOff x="2054160" y="2057400"/>
            <a:chExt cx="1222200" cy="152280"/>
          </a:xfrm>
        </p:grpSpPr>
        <p:sp>
          <p:nvSpPr>
            <p:cNvPr id="600" name="Oval 10"/>
            <p:cNvSpPr/>
            <p:nvPr/>
          </p:nvSpPr>
          <p:spPr>
            <a:xfrm>
              <a:off x="2054160" y="2057400"/>
              <a:ext cx="205920" cy="15120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11"/>
            <p:cNvSpPr/>
            <p:nvPr/>
          </p:nvSpPr>
          <p:spPr>
            <a:xfrm>
              <a:off x="2171160" y="2058480"/>
              <a:ext cx="1013760" cy="15120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12"/>
            <p:cNvSpPr/>
            <p:nvPr/>
          </p:nvSpPr>
          <p:spPr>
            <a:xfrm>
              <a:off x="3090960" y="2059200"/>
              <a:ext cx="185400" cy="147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13"/>
            <p:cNvSpPr/>
            <p:nvPr/>
          </p:nvSpPr>
          <p:spPr>
            <a:xfrm>
              <a:off x="3187440" y="2107800"/>
              <a:ext cx="52560" cy="428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Rectangle 14"/>
          <p:cNvSpPr/>
          <p:nvPr/>
        </p:nvSpPr>
        <p:spPr>
          <a:xfrm rot="3418800">
            <a:off x="3141000" y="1783440"/>
            <a:ext cx="849240" cy="984240"/>
          </a:xfrm>
          <a:prstGeom prst="rect">
            <a:avLst/>
          </a:prstGeom>
          <a:gradFill rotWithShape="0">
            <a:gsLst>
              <a:gs pos="0">
                <a:srgbClr val="669999"/>
              </a:gs>
              <a:gs pos="100000">
                <a:srgbClr val="5e4700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Group 15"/>
          <p:cNvGrpSpPr/>
          <p:nvPr/>
        </p:nvGrpSpPr>
        <p:grpSpPr>
          <a:xfrm>
            <a:off x="4111560" y="2093760"/>
            <a:ext cx="1069200" cy="142920"/>
            <a:chOff x="4111560" y="2093760"/>
            <a:chExt cx="1069200" cy="142920"/>
          </a:xfrm>
        </p:grpSpPr>
        <p:sp>
          <p:nvSpPr>
            <p:cNvPr id="606" name="Oval 16"/>
            <p:cNvSpPr/>
            <p:nvPr/>
          </p:nvSpPr>
          <p:spPr>
            <a:xfrm>
              <a:off x="4111560" y="2093760"/>
              <a:ext cx="180360" cy="1418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17"/>
            <p:cNvSpPr/>
            <p:nvPr/>
          </p:nvSpPr>
          <p:spPr>
            <a:xfrm>
              <a:off x="4214160" y="2094840"/>
              <a:ext cx="887040" cy="14184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8"/>
            <p:cNvSpPr/>
            <p:nvPr/>
          </p:nvSpPr>
          <p:spPr>
            <a:xfrm>
              <a:off x="5018760" y="2095200"/>
              <a:ext cx="162000" cy="138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9"/>
            <p:cNvSpPr/>
            <p:nvPr/>
          </p:nvSpPr>
          <p:spPr>
            <a:xfrm>
              <a:off x="5105880" y="2140920"/>
              <a:ext cx="45360" cy="3960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Rectangle 20"/>
          <p:cNvSpPr/>
          <p:nvPr/>
        </p:nvSpPr>
        <p:spPr>
          <a:xfrm rot="3418800">
            <a:off x="5105160" y="1782360"/>
            <a:ext cx="849240" cy="985680"/>
          </a:xfrm>
          <a:prstGeom prst="rect">
            <a:avLst/>
          </a:prstGeom>
          <a:gradFill rotWithShape="0">
            <a:gsLst>
              <a:gs pos="0">
                <a:srgbClr val="7e9ce8"/>
              </a:gs>
              <a:gs pos="100000">
                <a:srgbClr val="093c55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21"/>
          <p:cNvGrpSpPr/>
          <p:nvPr/>
        </p:nvGrpSpPr>
        <p:grpSpPr>
          <a:xfrm>
            <a:off x="6173640" y="2093760"/>
            <a:ext cx="1404720" cy="142920"/>
            <a:chOff x="6173640" y="2093760"/>
            <a:chExt cx="1404720" cy="142920"/>
          </a:xfrm>
        </p:grpSpPr>
        <p:sp>
          <p:nvSpPr>
            <p:cNvPr id="612" name="Oval 22"/>
            <p:cNvSpPr/>
            <p:nvPr/>
          </p:nvSpPr>
          <p:spPr>
            <a:xfrm>
              <a:off x="6173640" y="2093760"/>
              <a:ext cx="236880" cy="1418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23"/>
            <p:cNvSpPr/>
            <p:nvPr/>
          </p:nvSpPr>
          <p:spPr>
            <a:xfrm>
              <a:off x="6308280" y="2094840"/>
              <a:ext cx="1164960" cy="14184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4"/>
            <p:cNvSpPr/>
            <p:nvPr/>
          </p:nvSpPr>
          <p:spPr>
            <a:xfrm>
              <a:off x="7365240" y="2095200"/>
              <a:ext cx="213120" cy="138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5"/>
            <p:cNvSpPr/>
            <p:nvPr/>
          </p:nvSpPr>
          <p:spPr>
            <a:xfrm>
              <a:off x="7479360" y="2140920"/>
              <a:ext cx="59760" cy="3960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" name="Rectangle 26"/>
          <p:cNvSpPr/>
          <p:nvPr/>
        </p:nvSpPr>
        <p:spPr>
          <a:xfrm rot="3418800">
            <a:off x="7235640" y="1782360"/>
            <a:ext cx="849240" cy="985680"/>
          </a:xfrm>
          <a:prstGeom prst="rect">
            <a:avLst/>
          </a:prstGeom>
          <a:gradFill rotWithShape="0">
            <a:gsLst>
              <a:gs pos="0">
                <a:srgbClr val="669999"/>
              </a:gs>
              <a:gs pos="100000">
                <a:srgbClr val="5e4700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27"/>
          <p:cNvSpPr/>
          <p:nvPr/>
        </p:nvSpPr>
        <p:spPr>
          <a:xfrm>
            <a:off x="1424160" y="1935000"/>
            <a:ext cx="37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28"/>
          <p:cNvSpPr/>
          <p:nvPr/>
        </p:nvSpPr>
        <p:spPr>
          <a:xfrm>
            <a:off x="3462480" y="1981080"/>
            <a:ext cx="37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29"/>
          <p:cNvSpPr/>
          <p:nvPr/>
        </p:nvSpPr>
        <p:spPr>
          <a:xfrm>
            <a:off x="5398920" y="1981080"/>
            <a:ext cx="3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30"/>
          <p:cNvSpPr/>
          <p:nvPr/>
        </p:nvSpPr>
        <p:spPr>
          <a:xfrm>
            <a:off x="7763040" y="1905120"/>
            <a:ext cx="39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Rectangle 31" descr=""/>
          <p:cNvPicPr/>
          <p:nvPr/>
        </p:nvPicPr>
        <p:blipFill>
          <a:blip r:embed="rId1"/>
          <a:stretch/>
        </p:blipFill>
        <p:spPr>
          <a:xfrm>
            <a:off x="407880" y="2895480"/>
            <a:ext cx="2090880" cy="854280"/>
          </a:xfrm>
          <a:prstGeom prst="rect">
            <a:avLst/>
          </a:prstGeom>
          <a:ln w="0">
            <a:noFill/>
          </a:ln>
        </p:spPr>
      </p:pic>
      <p:sp>
        <p:nvSpPr>
          <p:cNvPr id="622" name=""/>
          <p:cNvSpPr/>
          <p:nvPr/>
        </p:nvSpPr>
        <p:spPr>
          <a:xfrm>
            <a:off x="898560" y="44280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PENTAKSIRAN SEKOL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BK00003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Oval 3"/>
          <p:cNvSpPr/>
          <p:nvPr/>
        </p:nvSpPr>
        <p:spPr>
          <a:xfrm>
            <a:off x="6324480" y="0"/>
            <a:ext cx="2819520" cy="2590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4"/>
          <p:cNvSpPr/>
          <p:nvPr/>
        </p:nvSpPr>
        <p:spPr>
          <a:xfrm>
            <a:off x="3352680" y="380880"/>
            <a:ext cx="1981440" cy="19814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5"/>
          <p:cNvSpPr/>
          <p:nvPr/>
        </p:nvSpPr>
        <p:spPr>
          <a:xfrm>
            <a:off x="0" y="457200"/>
            <a:ext cx="2286000" cy="15238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0" y="9144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j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3200400" y="9144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sp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6400800" y="53352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rkah  / G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9"/>
          <p:cNvSpPr/>
          <p:nvPr/>
        </p:nvSpPr>
        <p:spPr>
          <a:xfrm rot="16220400">
            <a:off x="2662200" y="758160"/>
            <a:ext cx="385560" cy="989280"/>
          </a:xfrm>
          <a:prstGeom prst="downArrow">
            <a:avLst>
              <a:gd name="adj1" fmla="val 50000"/>
              <a:gd name="adj2" fmla="val 6414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0"/>
          <p:cNvSpPr/>
          <p:nvPr/>
        </p:nvSpPr>
        <p:spPr>
          <a:xfrm rot="16172400">
            <a:off x="5559120" y="835920"/>
            <a:ext cx="460440" cy="762120"/>
          </a:xfrm>
          <a:prstGeom prst="downArrow">
            <a:avLst>
              <a:gd name="adj1" fmla="val 50000"/>
              <a:gd name="adj2" fmla="val 4138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reeform 45"/>
          <p:cNvSpPr/>
          <p:nvPr/>
        </p:nvSpPr>
        <p:spPr>
          <a:xfrm>
            <a:off x="7650000" y="1828800"/>
            <a:ext cx="623880" cy="947880"/>
          </a:xfrm>
          <a:custGeom>
            <a:avLst/>
            <a:gdLst>
              <a:gd name="textAreaLeft" fmla="*/ 0 w 623880"/>
              <a:gd name="textAreaRight" fmla="*/ 624240 w 623880"/>
              <a:gd name="textAreaTop" fmla="*/ 0 h 947880"/>
              <a:gd name="textAreaBottom" fmla="*/ 948240 h 947880"/>
            </a:gdLst>
            <a:ahLst/>
            <a:rect l="textAreaLeft" t="textAreaTop" r="textAreaRight" b="textAreaBottom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81d"/>
              </a:gs>
              <a:gs pos="50000">
                <a:srgbClr val="00563f"/>
              </a:gs>
              <a:gs pos="100000">
                <a:srgbClr val="00281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reeform 46"/>
          <p:cNvSpPr/>
          <p:nvPr/>
        </p:nvSpPr>
        <p:spPr>
          <a:xfrm>
            <a:off x="4660920" y="1828800"/>
            <a:ext cx="3621240" cy="606600"/>
          </a:xfrm>
          <a:custGeom>
            <a:avLst/>
            <a:gdLst>
              <a:gd name="textAreaLeft" fmla="*/ 0 w 3621240"/>
              <a:gd name="textAreaRight" fmla="*/ 3621600 w 3621240"/>
              <a:gd name="textAreaTop" fmla="*/ 0 h 606600"/>
              <a:gd name="textAreaBottom" fmla="*/ 606960 h 606600"/>
            </a:gdLst>
            <a:ahLst/>
            <a:rect l="textAreaLeft" t="textAreaTop" r="textAreaRight" b="textAreaBottom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reeform 47"/>
          <p:cNvSpPr/>
          <p:nvPr/>
        </p:nvSpPr>
        <p:spPr>
          <a:xfrm>
            <a:off x="7023240" y="2768760"/>
            <a:ext cx="622080" cy="942840"/>
          </a:xfrm>
          <a:custGeom>
            <a:avLst/>
            <a:gdLst>
              <a:gd name="textAreaLeft" fmla="*/ 0 w 622080"/>
              <a:gd name="textAreaRight" fmla="*/ 622440 w 622080"/>
              <a:gd name="textAreaTop" fmla="*/ 0 h 942840"/>
              <a:gd name="textAreaBottom" fmla="*/ 943200 h 942840"/>
            </a:gdLst>
            <a:ahLst/>
            <a:rect l="textAreaLeft" t="textAreaTop" r="textAreaRight" b="textAreaBottom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30744"/>
              </a:gs>
              <a:gs pos="50000">
                <a:srgbClr val="4b1092"/>
              </a:gs>
              <a:gs pos="100000">
                <a:srgbClr val="2307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reeform 48"/>
          <p:cNvSpPr/>
          <p:nvPr/>
        </p:nvSpPr>
        <p:spPr>
          <a:xfrm>
            <a:off x="3759120" y="2768760"/>
            <a:ext cx="3894120" cy="604800"/>
          </a:xfrm>
          <a:custGeom>
            <a:avLst/>
            <a:gdLst>
              <a:gd name="textAreaLeft" fmla="*/ 0 w 3894120"/>
              <a:gd name="textAreaRight" fmla="*/ 3894480 w 3894120"/>
              <a:gd name="textAreaTop" fmla="*/ 0 h 604800"/>
              <a:gd name="textAreaBottom" fmla="*/ 605160 h 604800"/>
            </a:gdLst>
            <a:ahLst/>
            <a:rect l="textAreaLeft" t="textAreaTop" r="textAreaRight" b="textAreaBottom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reeform 49"/>
          <p:cNvSpPr/>
          <p:nvPr/>
        </p:nvSpPr>
        <p:spPr>
          <a:xfrm>
            <a:off x="6392880" y="3700440"/>
            <a:ext cx="620640" cy="946080"/>
          </a:xfrm>
          <a:custGeom>
            <a:avLst/>
            <a:gdLst>
              <a:gd name="textAreaLeft" fmla="*/ 0 w 620640"/>
              <a:gd name="textAreaRight" fmla="*/ 621000 w 620640"/>
              <a:gd name="textAreaTop" fmla="*/ 0 h 946080"/>
              <a:gd name="textAreaBottom" fmla="*/ 946440 h 946080"/>
            </a:gdLst>
            <a:ahLst/>
            <a:rect l="textAreaLeft" t="textAreaTop" r="textAreaRight" b="textAreaBottom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31805"/>
              </a:gs>
              <a:gs pos="50000">
                <a:srgbClr val="90330a"/>
              </a:gs>
              <a:gs pos="100000">
                <a:srgbClr val="43180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Freeform 50"/>
          <p:cNvSpPr/>
          <p:nvPr/>
        </p:nvSpPr>
        <p:spPr>
          <a:xfrm>
            <a:off x="5767560" y="4565520"/>
            <a:ext cx="625320" cy="947880"/>
          </a:xfrm>
          <a:custGeom>
            <a:avLst/>
            <a:gdLst>
              <a:gd name="textAreaLeft" fmla="*/ 0 w 625320"/>
              <a:gd name="textAreaRight" fmla="*/ 625680 w 625320"/>
              <a:gd name="textAreaTop" fmla="*/ 0 h 947880"/>
              <a:gd name="textAreaBottom" fmla="*/ 948240 h 947880"/>
            </a:gdLst>
            <a:ahLst/>
            <a:rect l="textAreaLeft" t="textAreaTop" r="textAreaRight" b="textAreaBottom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33206"/>
              </a:gs>
              <a:gs pos="50000">
                <a:srgbClr val="906b0e"/>
              </a:gs>
              <a:gs pos="100000">
                <a:srgbClr val="43320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reeform 51"/>
          <p:cNvSpPr/>
          <p:nvPr/>
        </p:nvSpPr>
        <p:spPr>
          <a:xfrm>
            <a:off x="1971720" y="4573440"/>
            <a:ext cx="4421160" cy="605160"/>
          </a:xfrm>
          <a:custGeom>
            <a:avLst/>
            <a:gdLst>
              <a:gd name="textAreaLeft" fmla="*/ 0 w 4421160"/>
              <a:gd name="textAreaRight" fmla="*/ 4421520 w 4421160"/>
              <a:gd name="textAreaTop" fmla="*/ 0 h 605160"/>
              <a:gd name="textAreaBottom" fmla="*/ 605520 h 605160"/>
            </a:gdLst>
            <a:ahLst/>
            <a:rect l="textAreaLeft" t="textAreaTop" r="textAreaRight" b="textAreaBottom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61"/>
          <p:cNvSpPr/>
          <p:nvPr/>
        </p:nvSpPr>
        <p:spPr>
          <a:xfrm rot="274800">
            <a:off x="2259000" y="1854000"/>
            <a:ext cx="2689200" cy="32637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3263760"/>
              <a:gd name="textAreaBottom" fmla="*/ 3264120 h 3263760"/>
            </a:gdLst>
            <a:ahLst/>
            <a:rect l="textAreaLeft" t="textAreaTop" r="textAreaRight" b="textAreaBottom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1092e"/>
              </a:gs>
            </a:gsLst>
            <a:lin ang="51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62"/>
          <p:cNvSpPr/>
          <p:nvPr/>
        </p:nvSpPr>
        <p:spPr>
          <a:xfrm>
            <a:off x="4572000" y="2435400"/>
            <a:ext cx="3124080" cy="339480"/>
          </a:xfrm>
          <a:prstGeom prst="rect">
            <a:avLst/>
          </a:prstGeom>
          <a:gradFill rotWithShape="0">
            <a:gsLst>
              <a:gs pos="0">
                <a:srgbClr val="00684d"/>
              </a:gs>
              <a:gs pos="50000">
                <a:srgbClr val="00906a"/>
              </a:gs>
              <a:gs pos="100000">
                <a:srgbClr val="00684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emberi maklum bal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63"/>
          <p:cNvSpPr/>
          <p:nvPr/>
        </p:nvSpPr>
        <p:spPr>
          <a:xfrm>
            <a:off x="3760920" y="3352680"/>
            <a:ext cx="3268440" cy="333360"/>
          </a:xfrm>
          <a:prstGeom prst="rect">
            <a:avLst/>
          </a:prstGeom>
          <a:gradFill rotWithShape="0">
            <a:gsLst>
              <a:gs pos="0">
                <a:srgbClr val="5d2fb9"/>
              </a:gs>
              <a:gs pos="50000">
                <a:srgbClr val="8041ff"/>
              </a:gs>
              <a:gs pos="100000">
                <a:srgbClr val="5d2fb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endapatkan maklu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reeform 64"/>
          <p:cNvSpPr/>
          <p:nvPr/>
        </p:nvSpPr>
        <p:spPr>
          <a:xfrm>
            <a:off x="2867040" y="3700440"/>
            <a:ext cx="4154400" cy="611280"/>
          </a:xfrm>
          <a:custGeom>
            <a:avLst/>
            <a:gdLst>
              <a:gd name="textAreaLeft" fmla="*/ 0 w 4154400"/>
              <a:gd name="textAreaRight" fmla="*/ 4154760 w 4154400"/>
              <a:gd name="textAreaTop" fmla="*/ 0 h 611280"/>
              <a:gd name="textAreaBottom" fmla="*/ 611640 h 611280"/>
            </a:gdLst>
            <a:ahLst/>
            <a:rect l="textAreaLeft" t="textAreaTop" r="textAreaRight" b="textAreaBottom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65"/>
          <p:cNvSpPr/>
          <p:nvPr/>
        </p:nvSpPr>
        <p:spPr>
          <a:xfrm>
            <a:off x="2870280" y="4314960"/>
            <a:ext cx="3535200" cy="333360"/>
          </a:xfrm>
          <a:prstGeom prst="rect">
            <a:avLst/>
          </a:prstGeom>
          <a:gradFill rotWithShape="0">
            <a:gsLst>
              <a:gs pos="0">
                <a:srgbClr val="a0523a"/>
              </a:gs>
              <a:gs pos="50000">
                <a:srgbClr val="dc7150"/>
              </a:gs>
              <a:gs pos="100000">
                <a:srgbClr val="a0523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embuat pemerhat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66"/>
          <p:cNvSpPr/>
          <p:nvPr/>
        </p:nvSpPr>
        <p:spPr>
          <a:xfrm>
            <a:off x="1969920" y="5154480"/>
            <a:ext cx="3807000" cy="331920"/>
          </a:xfrm>
          <a:prstGeom prst="rect">
            <a:avLst/>
          </a:prstGeom>
          <a:gradFill rotWithShape="0">
            <a:gsLst>
              <a:gs pos="0">
                <a:srgbClr val="977514"/>
              </a:gs>
              <a:gs pos="50000">
                <a:srgbClr val="d0a11c"/>
              </a:gs>
              <a:gs pos="100000">
                <a:srgbClr val="9775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enjadi pemudahc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Text Box 68" descr=""/>
          <p:cNvPicPr/>
          <p:nvPr/>
        </p:nvPicPr>
        <p:blipFill>
          <a:blip r:embed="rId1"/>
          <a:stretch/>
        </p:blipFill>
        <p:spPr>
          <a:xfrm>
            <a:off x="523800" y="1322280"/>
            <a:ext cx="2835360" cy="308448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380880" y="417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PERANAN GURU DALAM PENTAKSIRAN SEKOL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AutoShape 3"/>
          <p:cNvSpPr/>
          <p:nvPr/>
        </p:nvSpPr>
        <p:spPr>
          <a:xfrm>
            <a:off x="152280" y="1295280"/>
            <a:ext cx="6858000" cy="4496040"/>
          </a:xfrm>
          <a:prstGeom prst="rightArrow">
            <a:avLst>
              <a:gd name="adj1" fmla="val 79306"/>
              <a:gd name="adj2" fmla="val 30641"/>
            </a:avLst>
          </a:prstGeom>
          <a:gradFill rotWithShape="0">
            <a:gsLst>
              <a:gs pos="0">
                <a:srgbClr val="977497"/>
              </a:gs>
              <a:gs pos="100000">
                <a:srgbClr val="ffc8ff"/>
              </a:gs>
            </a:gsLst>
            <a:lin ang="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AutoShape 4"/>
          <p:cNvSpPr/>
          <p:nvPr/>
        </p:nvSpPr>
        <p:spPr>
          <a:xfrm>
            <a:off x="228600" y="1905120"/>
            <a:ext cx="548640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cccc00"/>
              </a:gs>
              <a:gs pos="100000">
                <a:srgbClr val="164c3d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engetahui apa dan bagaimana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esuatu perkara  itu hendak dipelajar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utoShape 5"/>
          <p:cNvSpPr/>
          <p:nvPr/>
        </p:nvSpPr>
        <p:spPr>
          <a:xfrm>
            <a:off x="228600" y="3048120"/>
            <a:ext cx="548640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8d8ec"/>
              </a:gs>
              <a:gs pos="100000">
                <a:srgbClr val="3d4d4d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engetahui bagaimana standar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hendak dicapa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6"/>
          <p:cNvSpPr/>
          <p:nvPr/>
        </p:nvSpPr>
        <p:spPr>
          <a:xfrm>
            <a:off x="228600" y="4191120"/>
            <a:ext cx="54100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9999"/>
              </a:gs>
              <a:gs pos="100000">
                <a:srgbClr val="5e47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elaksanakan tugasan yang diberika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upaya apa yang diketahui dan bole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dibuat boleh ditaks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AutoShape 7"/>
          <p:cNvSpPr/>
          <p:nvPr/>
        </p:nvSpPr>
        <p:spPr>
          <a:xfrm>
            <a:off x="6629400" y="1981080"/>
            <a:ext cx="2514600" cy="3353040"/>
          </a:xfrm>
          <a:custGeom>
            <a:avLst/>
            <a:gdLst>
              <a:gd name="textAreaLeft" fmla="*/ 66960 w 2514600"/>
              <a:gd name="textAreaRight" fmla="*/ 2447640 w 2514600"/>
              <a:gd name="textAreaTop" fmla="*/ 66960 h 3353040"/>
              <a:gd name="textAreaBottom" fmla="*/ 3286080 h 3353040"/>
            </a:gdLst>
            <a:ahLst/>
            <a:rect l="textAreaLeft" t="textAreaTop" r="textAreaRight" b="textAreaBottom"/>
            <a:pathLst>
              <a:path w="21600" h="28801">
                <a:moveTo>
                  <a:pt x="1967" y="0"/>
                </a:moveTo>
                <a:arcTo wR="1967" hR="1967" stAng="16200000" swAng="-5400000"/>
                <a:lnTo>
                  <a:pt x="0" y="26834"/>
                </a:lnTo>
                <a:arcTo wR="1967" hR="1967" stAng="10800000" swAng="-5400000"/>
                <a:lnTo>
                  <a:pt x="19633" y="28801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Kejayaan dalam mendapatkan ilmu, kemahiran dan amalan nilai murni serta sikap yang terpu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Rectangle 7" descr=""/>
          <p:cNvPicPr/>
          <p:nvPr/>
        </p:nvPicPr>
        <p:blipFill>
          <a:blip r:embed="rId1"/>
          <a:stretch/>
        </p:blipFill>
        <p:spPr>
          <a:xfrm>
            <a:off x="244440" y="237960"/>
            <a:ext cx="8955000" cy="59076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1105920" y="341280"/>
            <a:ext cx="732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PERANAN MURID DALAM PENTAKSIRAN SEKOL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Title 1"/>
          <p:cNvGrpSpPr/>
          <p:nvPr/>
        </p:nvGrpSpPr>
        <p:grpSpPr>
          <a:xfrm>
            <a:off x="-19080" y="360360"/>
            <a:ext cx="9175680" cy="493560"/>
            <a:chOff x="-19080" y="360360"/>
            <a:chExt cx="9175680" cy="493560"/>
          </a:xfrm>
        </p:grpSpPr>
        <p:pic>
          <p:nvPicPr>
            <p:cNvPr id="646" name="Title 1" descr=""/>
            <p:cNvPicPr/>
            <p:nvPr/>
          </p:nvPicPr>
          <p:blipFill>
            <a:blip r:embed="rId1"/>
            <a:stretch/>
          </p:blipFill>
          <p:spPr>
            <a:xfrm>
              <a:off x="-19080" y="360360"/>
              <a:ext cx="917568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7" name=""/>
            <p:cNvSpPr/>
            <p:nvPr/>
          </p:nvSpPr>
          <p:spPr>
            <a:xfrm>
              <a:off x="0" y="380880"/>
              <a:ext cx="9144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Verdana"/>
                </a:rPr>
                <a:t>CABARAN KEPADA KEJAYAAN PB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Group 29"/>
          <p:cNvGrpSpPr/>
          <p:nvPr/>
        </p:nvGrpSpPr>
        <p:grpSpPr>
          <a:xfrm>
            <a:off x="228600" y="1606680"/>
            <a:ext cx="2895120" cy="5023080"/>
            <a:chOff x="228600" y="1606680"/>
            <a:chExt cx="2895120" cy="5023080"/>
          </a:xfrm>
        </p:grpSpPr>
        <p:sp>
          <p:nvSpPr>
            <p:cNvPr id="649" name="AutoShape 30"/>
            <p:cNvSpPr/>
            <p:nvPr/>
          </p:nvSpPr>
          <p:spPr>
            <a:xfrm>
              <a:off x="354600" y="3332880"/>
              <a:ext cx="2643120" cy="3296880"/>
            </a:xfrm>
            <a:custGeom>
              <a:avLst/>
              <a:gdLst>
                <a:gd name="textAreaLeft" fmla="*/ 61200 w 2643120"/>
                <a:gd name="textAreaRight" fmla="*/ 2581920 w 2643120"/>
                <a:gd name="textAreaTop" fmla="*/ 61200 h 3296880"/>
                <a:gd name="textAreaBottom" fmla="*/ 3235680 h 3296880"/>
              </a:gdLst>
              <a:ahLst/>
              <a:rect l="textAreaLeft" t="textAreaTop" r="textAreaRight" b="textAreaBottom"/>
              <a:pathLst>
                <a:path w="21600" h="26942">
                  <a:moveTo>
                    <a:pt x="1714" y="0"/>
                  </a:moveTo>
                  <a:arcTo wR="1714" hR="1714" stAng="16200000" swAng="-5400000"/>
                  <a:lnTo>
                    <a:pt x="0" y="25228"/>
                  </a:lnTo>
                  <a:arcTo wR="1714" hR="1714" stAng="10800000" swAng="-5400000"/>
                  <a:lnTo>
                    <a:pt x="19886" y="26942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3b5893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31"/>
            <p:cNvSpPr/>
            <p:nvPr/>
          </p:nvSpPr>
          <p:spPr>
            <a:xfrm>
              <a:off x="399240" y="3963240"/>
              <a:ext cx="249624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Penyelesai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rogram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atihan dan penatar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ya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enyeluru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AutoShape 32"/>
            <p:cNvSpPr/>
            <p:nvPr/>
          </p:nvSpPr>
          <p:spPr>
            <a:xfrm>
              <a:off x="228600" y="1606680"/>
              <a:ext cx="2895120" cy="2219400"/>
            </a:xfrm>
            <a:prstGeom prst="roundRect">
              <a:avLst>
                <a:gd name="adj" fmla="val 17509"/>
              </a:avLst>
            </a:prstGeom>
            <a:solidFill>
              <a:srgbClr val="4e91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AutoShape 33"/>
            <p:cNvSpPr/>
            <p:nvPr/>
          </p:nvSpPr>
          <p:spPr>
            <a:xfrm>
              <a:off x="296640" y="3216240"/>
              <a:ext cx="2769120" cy="551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93bce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AutoShape 34"/>
            <p:cNvSpPr/>
            <p:nvPr/>
          </p:nvSpPr>
          <p:spPr>
            <a:xfrm>
              <a:off x="296640" y="1630440"/>
              <a:ext cx="2769120" cy="54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ee1f3"/>
                </a:gs>
                <a:gs pos="100000">
                  <a:srgbClr val="4e91d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 Box 35"/>
            <p:cNvSpPr/>
            <p:nvPr/>
          </p:nvSpPr>
          <p:spPr>
            <a:xfrm>
              <a:off x="304560" y="1676880"/>
              <a:ext cx="2739960" cy="18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00"/>
                  </a:solidFill>
                  <a:latin typeface="Verdana"/>
                </a:rPr>
                <a:t>Kesediaan da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00"/>
                  </a:solidFill>
                  <a:latin typeface="Verdana"/>
                </a:rPr>
                <a:t>kemahiran guru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00"/>
                  </a:solidFill>
                  <a:latin typeface="Verdana"/>
                </a:rPr>
                <a:t>melaksanaka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00"/>
                  </a:solidFill>
                  <a:latin typeface="Verdana"/>
                </a:rPr>
                <a:t>PBS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Group 37"/>
          <p:cNvGrpSpPr/>
          <p:nvPr/>
        </p:nvGrpSpPr>
        <p:grpSpPr>
          <a:xfrm>
            <a:off x="6337440" y="1600200"/>
            <a:ext cx="2806200" cy="5027040"/>
            <a:chOff x="6337440" y="1600200"/>
            <a:chExt cx="2806200" cy="5027040"/>
          </a:xfrm>
        </p:grpSpPr>
        <p:sp>
          <p:nvSpPr>
            <p:cNvPr id="656" name="AutoShape 38"/>
            <p:cNvSpPr/>
            <p:nvPr/>
          </p:nvSpPr>
          <p:spPr>
            <a:xfrm>
              <a:off x="6379200" y="3362760"/>
              <a:ext cx="2764440" cy="3264480"/>
            </a:xfrm>
            <a:custGeom>
              <a:avLst/>
              <a:gdLst>
                <a:gd name="textAreaLeft" fmla="*/ 64080 w 2764440"/>
                <a:gd name="textAreaRight" fmla="*/ 2700360 w 2764440"/>
                <a:gd name="textAreaTop" fmla="*/ 64080 h 3264480"/>
                <a:gd name="textAreaBottom" fmla="*/ 3200400 h 3264480"/>
              </a:gdLst>
              <a:ahLst/>
              <a:rect l="textAreaLeft" t="textAreaTop" r="textAreaRight" b="textAreaBottom"/>
              <a:pathLst>
                <a:path w="21600" h="25507">
                  <a:moveTo>
                    <a:pt x="1714" y="0"/>
                  </a:moveTo>
                  <a:arcTo wR="1714" hR="1714" stAng="16200000" swAng="-5400000"/>
                  <a:lnTo>
                    <a:pt x="0" y="23793"/>
                  </a:lnTo>
                  <a:arcTo wR="1714" hR="1714" stAng="10800000" swAng="-5400000"/>
                  <a:lnTo>
                    <a:pt x="19886" y="25507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6b5b0b"/>
                </a:gs>
                <a:gs pos="100000">
                  <a:srgbClr val="e8c518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39"/>
            <p:cNvSpPr/>
            <p:nvPr/>
          </p:nvSpPr>
          <p:spPr>
            <a:xfrm>
              <a:off x="6376320" y="4038480"/>
              <a:ext cx="27673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Penyelesai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emantau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ementor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engesan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enyelaras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AutoShape 40"/>
            <p:cNvSpPr/>
            <p:nvPr/>
          </p:nvSpPr>
          <p:spPr>
            <a:xfrm>
              <a:off x="6337440" y="1600200"/>
              <a:ext cx="2806200" cy="2444400"/>
            </a:xfrm>
            <a:prstGeom prst="roundRect">
              <a:avLst>
                <a:gd name="adj" fmla="val 17509"/>
              </a:avLst>
            </a:prstGeom>
            <a:solidFill>
              <a:srgbClr val="b59f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AutoShape 41"/>
            <p:cNvSpPr/>
            <p:nvPr/>
          </p:nvSpPr>
          <p:spPr>
            <a:xfrm>
              <a:off x="6342480" y="3373200"/>
              <a:ext cx="2686320" cy="605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59f43"/>
                </a:gs>
                <a:gs pos="100000">
                  <a:srgbClr val="dbd0a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AutoShape 42"/>
            <p:cNvSpPr/>
            <p:nvPr/>
          </p:nvSpPr>
          <p:spPr>
            <a:xfrm>
              <a:off x="6342480" y="1626840"/>
              <a:ext cx="2686320" cy="603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de8d1"/>
                </a:gs>
                <a:gs pos="100000">
                  <a:srgbClr val="b59f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Text Box 43"/>
            <p:cNvSpPr/>
            <p:nvPr/>
          </p:nvSpPr>
          <p:spPr>
            <a:xfrm>
              <a:off x="6579000" y="1675440"/>
              <a:ext cx="23925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00"/>
                  </a:solidFill>
                  <a:latin typeface="Verdana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Verdana"/>
                </a:rPr>
                <a:t>Integrit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Verdana"/>
                </a:rPr>
                <a:t>guru diragu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Group 45"/>
          <p:cNvGrpSpPr/>
          <p:nvPr/>
        </p:nvGrpSpPr>
        <p:grpSpPr>
          <a:xfrm>
            <a:off x="3200400" y="1600200"/>
            <a:ext cx="3199680" cy="5055840"/>
            <a:chOff x="3200400" y="1600200"/>
            <a:chExt cx="3199680" cy="5055840"/>
          </a:xfrm>
        </p:grpSpPr>
        <p:sp>
          <p:nvSpPr>
            <p:cNvPr id="663" name="AutoShape 46"/>
            <p:cNvSpPr/>
            <p:nvPr/>
          </p:nvSpPr>
          <p:spPr>
            <a:xfrm>
              <a:off x="3352320" y="3809520"/>
              <a:ext cx="2841840" cy="2846520"/>
            </a:xfrm>
            <a:custGeom>
              <a:avLst/>
              <a:gdLst>
                <a:gd name="textAreaLeft" fmla="*/ 65880 w 2841840"/>
                <a:gd name="textAreaRight" fmla="*/ 2775960 w 2841840"/>
                <a:gd name="textAreaTop" fmla="*/ 65880 h 2846520"/>
                <a:gd name="textAreaBottom" fmla="*/ 2780640 h 2846520"/>
              </a:gdLst>
              <a:ahLst/>
              <a:rect l="textAreaLeft" t="textAreaTop" r="textAreaRight" b="textAreaBottom"/>
              <a:pathLst>
                <a:path w="21600" h="21636">
                  <a:moveTo>
                    <a:pt x="1714" y="0"/>
                  </a:moveTo>
                  <a:arcTo wR="1714" hR="1714" stAng="16200000" swAng="-5400000"/>
                  <a:lnTo>
                    <a:pt x="0" y="19922"/>
                  </a:lnTo>
                  <a:arcTo wR="1714" hR="1714" stAng="10800000" swAng="-5400000"/>
                  <a:lnTo>
                    <a:pt x="19886" y="21636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475e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AutoShape 47"/>
            <p:cNvSpPr/>
            <p:nvPr/>
          </p:nvSpPr>
          <p:spPr>
            <a:xfrm>
              <a:off x="3200400" y="1600200"/>
              <a:ext cx="3067560" cy="2387160"/>
            </a:xfrm>
            <a:prstGeom prst="roundRect">
              <a:avLst>
                <a:gd name="adj" fmla="val 17509"/>
              </a:avLst>
            </a:prstGeom>
            <a:solidFill>
              <a:srgbClr val="34b0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AutoShape 48"/>
            <p:cNvSpPr/>
            <p:nvPr/>
          </p:nvSpPr>
          <p:spPr>
            <a:xfrm>
              <a:off x="3273840" y="3333240"/>
              <a:ext cx="2932200" cy="59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4b034">
                    <a:alpha val="0"/>
                  </a:srgbClr>
                </a:gs>
                <a:gs pos="100000">
                  <a:srgbClr val="a3dba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AutoShape 49"/>
            <p:cNvSpPr/>
            <p:nvPr/>
          </p:nvSpPr>
          <p:spPr>
            <a:xfrm>
              <a:off x="3273840" y="1628640"/>
              <a:ext cx="2932200" cy="591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0f3e0"/>
                </a:gs>
                <a:gs pos="100000">
                  <a:srgbClr val="34b0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Text Box 50"/>
            <p:cNvSpPr/>
            <p:nvPr/>
          </p:nvSpPr>
          <p:spPr>
            <a:xfrm>
              <a:off x="3282120" y="3987360"/>
              <a:ext cx="31179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Verdana"/>
                </a:rPr>
                <a:t>Penyelesai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enerang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utomasik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elapor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Text Box 51"/>
            <p:cNvSpPr/>
            <p:nvPr/>
          </p:nvSpPr>
          <p:spPr>
            <a:xfrm>
              <a:off x="3414240" y="1685880"/>
              <a:ext cx="2605320" cy="18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00"/>
                  </a:solidFill>
                  <a:latin typeface="Verdana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00"/>
                  </a:solidFill>
                  <a:latin typeface="Verdana"/>
                </a:rPr>
                <a:t>Guru rasa terbeba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00"/>
                  </a:solidFill>
                  <a:latin typeface="Verdana"/>
                </a:rPr>
                <a:t>dengan tuga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00"/>
                  </a:solidFill>
                  <a:latin typeface="Verdana"/>
                </a:rPr>
                <a:t>‘</a:t>
              </a:r>
              <a:r>
                <a:rPr b="1" lang="en-US" sz="2200" spc="-1" strike="noStrike">
                  <a:solidFill>
                    <a:srgbClr val="ffff00"/>
                  </a:solidFill>
                  <a:latin typeface="Verdana"/>
                </a:rPr>
                <a:t>tambahan’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"/>
          <p:cNvSpPr/>
          <p:nvPr/>
        </p:nvSpPr>
        <p:spPr>
          <a:xfrm>
            <a:off x="2442600" y="304920"/>
            <a:ext cx="495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ABARAN KEPADA KEJAYAAN P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ounded Rectangle 2"/>
          <p:cNvSpPr/>
          <p:nvPr/>
        </p:nvSpPr>
        <p:spPr>
          <a:xfrm>
            <a:off x="1143000" y="1523880"/>
            <a:ext cx="22096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a90"/>
              </a:gs>
              <a:gs pos="100000">
                <a:srgbClr val="fff4e0"/>
              </a:gs>
            </a:gsLst>
            <a:lin ang="16200000"/>
          </a:gradFill>
          <a:ln w="9360">
            <a:solidFill>
              <a:srgbClr val="cc98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DB47-DDCC-4F4F-8104-8FA51D9B556F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Box 8"/>
          <p:cNvSpPr/>
          <p:nvPr/>
        </p:nvSpPr>
        <p:spPr>
          <a:xfrm>
            <a:off x="1314360" y="1523880"/>
            <a:ext cx="142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emasti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elaksana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entaksira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ngik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sed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ounded Rectangle 5"/>
          <p:cNvSpPr/>
          <p:nvPr/>
        </p:nvSpPr>
        <p:spPr>
          <a:xfrm>
            <a:off x="1143000" y="5029200"/>
            <a:ext cx="22096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4f2d3"/>
              </a:gs>
              <a:gs pos="100000">
                <a:srgbClr val="e6fcf3"/>
              </a:gs>
            </a:gsLst>
            <a:lin ang="16200000"/>
          </a:gradFill>
          <a:ln w="9360">
            <a:solidFill>
              <a:srgbClr val="2ca38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ounded Rectangle 6"/>
          <p:cNvSpPr/>
          <p:nvPr/>
        </p:nvSpPr>
        <p:spPr>
          <a:xfrm>
            <a:off x="6095880" y="1447920"/>
            <a:ext cx="221004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ef397"/>
              </a:gs>
              <a:gs pos="100000">
                <a:srgbClr val="eafae0"/>
              </a:gs>
            </a:gsLst>
            <a:lin ang="16200000"/>
          </a:gradFill>
          <a:ln w="9360">
            <a:solidFill>
              <a:srgbClr val="0099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9"/>
          <p:cNvSpPr/>
          <p:nvPr/>
        </p:nvSpPr>
        <p:spPr>
          <a:xfrm>
            <a:off x="6323400" y="1447920"/>
            <a:ext cx="1722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eseragam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emberian sk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erdasark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anda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esta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ounded Rectangle 8"/>
          <p:cNvSpPr/>
          <p:nvPr/>
        </p:nvSpPr>
        <p:spPr>
          <a:xfrm>
            <a:off x="6095880" y="4952880"/>
            <a:ext cx="221004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1bdd3"/>
              </a:gs>
              <a:gs pos="100000">
                <a:srgbClr val="eaedf3"/>
              </a:gs>
            </a:gsLst>
            <a:lin ang="16200000"/>
          </a:gradFill>
          <a:ln w="9360">
            <a:solidFill>
              <a:srgbClr val="16436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11"/>
          <p:cNvSpPr/>
          <p:nvPr/>
        </p:nvSpPr>
        <p:spPr>
          <a:xfrm>
            <a:off x="6782040" y="5029200"/>
            <a:ext cx="1563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mastik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ekuatan &amp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eberkesan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strum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entaksi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0"/>
          <p:cNvSpPr/>
          <p:nvPr/>
        </p:nvSpPr>
        <p:spPr>
          <a:xfrm>
            <a:off x="1151280" y="5105520"/>
            <a:ext cx="1758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mbant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mudahc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&amp; membimb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elaksan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entaksi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Diagram 11" descr=""/>
          <p:cNvPicPr/>
          <p:nvPr/>
        </p:nvPicPr>
        <p:blipFill>
          <a:blip r:embed="rId1"/>
          <a:stretch/>
        </p:blipFill>
        <p:spPr>
          <a:xfrm>
            <a:off x="835200" y="1212840"/>
            <a:ext cx="7785000" cy="5651640"/>
          </a:xfrm>
          <a:prstGeom prst="rect">
            <a:avLst/>
          </a:prstGeom>
          <a:ln w="0">
            <a:noFill/>
          </a:ln>
        </p:spPr>
      </p:pic>
      <p:pic>
        <p:nvPicPr>
          <p:cNvPr id="680" name="Rectangle 12" descr=""/>
          <p:cNvPicPr/>
          <p:nvPr/>
        </p:nvPicPr>
        <p:blipFill>
          <a:blip r:embed="rId2"/>
          <a:stretch/>
        </p:blipFill>
        <p:spPr>
          <a:xfrm>
            <a:off x="298440" y="237960"/>
            <a:ext cx="8852040" cy="590760"/>
          </a:xfrm>
          <a:prstGeom prst="rect">
            <a:avLst/>
          </a:prstGeom>
          <a:ln w="0">
            <a:noFill/>
          </a:ln>
        </p:spPr>
      </p:pic>
      <p:pic>
        <p:nvPicPr>
          <p:cNvPr id="681" name="TextBox 13" descr=""/>
          <p:cNvPicPr/>
          <p:nvPr/>
        </p:nvPicPr>
        <p:blipFill>
          <a:blip r:embed="rId3"/>
          <a:stretch/>
        </p:blipFill>
        <p:spPr>
          <a:xfrm>
            <a:off x="2451240" y="2938320"/>
            <a:ext cx="2127240" cy="438120"/>
          </a:xfrm>
          <a:prstGeom prst="rect">
            <a:avLst/>
          </a:prstGeom>
          <a:ln w="0">
            <a:noFill/>
          </a:ln>
        </p:spPr>
      </p:pic>
      <p:pic>
        <p:nvPicPr>
          <p:cNvPr id="682" name="TextBox 14" descr=""/>
          <p:cNvPicPr/>
          <p:nvPr/>
        </p:nvPicPr>
        <p:blipFill>
          <a:blip r:embed="rId4"/>
          <a:stretch/>
        </p:blipFill>
        <p:spPr>
          <a:xfrm>
            <a:off x="4737240" y="3017880"/>
            <a:ext cx="2279520" cy="438120"/>
          </a:xfrm>
          <a:prstGeom prst="rect">
            <a:avLst/>
          </a:prstGeom>
          <a:ln w="0">
            <a:noFill/>
          </a:ln>
        </p:spPr>
      </p:pic>
      <p:pic>
        <p:nvPicPr>
          <p:cNvPr id="683" name="TextBox 15" descr=""/>
          <p:cNvPicPr/>
          <p:nvPr/>
        </p:nvPicPr>
        <p:blipFill>
          <a:blip r:embed="rId5"/>
          <a:stretch/>
        </p:blipFill>
        <p:spPr>
          <a:xfrm>
            <a:off x="2298600" y="4462560"/>
            <a:ext cx="2279880" cy="438120"/>
          </a:xfrm>
          <a:prstGeom prst="rect">
            <a:avLst/>
          </a:prstGeom>
          <a:ln w="0">
            <a:noFill/>
          </a:ln>
        </p:spPr>
      </p:pic>
      <p:pic>
        <p:nvPicPr>
          <p:cNvPr id="684" name="TextBox 16" descr=""/>
          <p:cNvPicPr/>
          <p:nvPr/>
        </p:nvPicPr>
        <p:blipFill>
          <a:blip r:embed="rId6"/>
          <a:stretch/>
        </p:blipFill>
        <p:spPr>
          <a:xfrm>
            <a:off x="4809960" y="4541760"/>
            <a:ext cx="2286000" cy="438120"/>
          </a:xfrm>
          <a:prstGeom prst="rect">
            <a:avLst/>
          </a:prstGeom>
          <a:ln w="0">
            <a:noFill/>
          </a:ln>
        </p:spPr>
      </p:pic>
      <p:sp>
        <p:nvSpPr>
          <p:cNvPr id="685" name=""/>
          <p:cNvSpPr/>
          <p:nvPr/>
        </p:nvSpPr>
        <p:spPr>
          <a:xfrm>
            <a:off x="1584360" y="241200"/>
            <a:ext cx="5730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PENJAMINAN KUALI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134"/>
          <p:cNvSpPr/>
          <p:nvPr/>
        </p:nvSpPr>
        <p:spPr>
          <a:xfrm flipH="1">
            <a:off x="1142280" y="177840"/>
            <a:ext cx="8001000" cy="718920"/>
          </a:xfrm>
          <a:prstGeom prst="rect">
            <a:avLst/>
          </a:prstGeom>
          <a:gradFill rotWithShape="0">
            <a:gsLst>
              <a:gs pos="0">
                <a:srgbClr val="004b70">
                  <a:alpha val="80000"/>
                </a:srgbClr>
              </a:gs>
              <a:gs pos="100000">
                <a:srgbClr val="e9893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Group 114"/>
          <p:cNvGrpSpPr/>
          <p:nvPr/>
        </p:nvGrpSpPr>
        <p:grpSpPr>
          <a:xfrm>
            <a:off x="380880" y="76320"/>
            <a:ext cx="1098360" cy="1001160"/>
            <a:chOff x="380880" y="76320"/>
            <a:chExt cx="1098360" cy="1001160"/>
          </a:xfrm>
        </p:grpSpPr>
        <p:grpSp>
          <p:nvGrpSpPr>
            <p:cNvPr id="688" name="Group 115"/>
            <p:cNvGrpSpPr/>
            <p:nvPr/>
          </p:nvGrpSpPr>
          <p:grpSpPr>
            <a:xfrm>
              <a:off x="380880" y="76320"/>
              <a:ext cx="1098360" cy="1001160"/>
              <a:chOff x="380880" y="76320"/>
              <a:chExt cx="1098360" cy="1001160"/>
            </a:xfrm>
          </p:grpSpPr>
          <p:sp>
            <p:nvSpPr>
              <p:cNvPr id="689" name="Oval 116"/>
              <p:cNvSpPr/>
              <p:nvPr/>
            </p:nvSpPr>
            <p:spPr>
              <a:xfrm>
                <a:off x="380880" y="76320"/>
                <a:ext cx="1098360" cy="100116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43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117"/>
              <p:cNvSpPr/>
              <p:nvPr/>
            </p:nvSpPr>
            <p:spPr>
              <a:xfrm>
                <a:off x="506160" y="92880"/>
                <a:ext cx="847440" cy="377640"/>
              </a:xfrm>
              <a:custGeom>
                <a:avLst/>
                <a:gdLst>
                  <a:gd name="textAreaLeft" fmla="*/ 0 w 847440"/>
                  <a:gd name="textAreaRight" fmla="*/ 847800 w 84744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1" name="Text Box 118"/>
            <p:cNvSpPr/>
            <p:nvPr/>
          </p:nvSpPr>
          <p:spPr>
            <a:xfrm>
              <a:off x="710280" y="228960"/>
              <a:ext cx="3621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" name="Text Box 147"/>
          <p:cNvSpPr/>
          <p:nvPr/>
        </p:nvSpPr>
        <p:spPr>
          <a:xfrm>
            <a:off x="1143000" y="2286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Penambahbaikan UP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Table 15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601120" cy="4943520"/>
          </a:xfrm>
          <a:prstGeom prst="rect">
            <a:avLst/>
          </a:prstGeom>
          <a:ln w="0">
            <a:noFill/>
          </a:ln>
        </p:spPr>
      </p:pic>
      <p:grpSp>
        <p:nvGrpSpPr>
          <p:cNvPr id="694" name="Rectangle 18"/>
          <p:cNvGrpSpPr/>
          <p:nvPr/>
        </p:nvGrpSpPr>
        <p:grpSpPr>
          <a:xfrm>
            <a:off x="92160" y="5894280"/>
            <a:ext cx="8955000" cy="708120"/>
            <a:chOff x="92160" y="5894280"/>
            <a:chExt cx="8955000" cy="708120"/>
          </a:xfrm>
        </p:grpSpPr>
        <p:pic>
          <p:nvPicPr>
            <p:cNvPr id="695" name="Rectangle 18" descr=""/>
            <p:cNvPicPr/>
            <p:nvPr/>
          </p:nvPicPr>
          <p:blipFill>
            <a:blip r:embed="rId2"/>
            <a:stretch/>
          </p:blipFill>
          <p:spPr>
            <a:xfrm>
              <a:off x="92160" y="5894280"/>
              <a:ext cx="8955000" cy="7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"/>
            <p:cNvSpPr/>
            <p:nvPr/>
          </p:nvSpPr>
          <p:spPr>
            <a:xfrm>
              <a:off x="152280" y="5943600"/>
              <a:ext cx="8839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2673"/>
                  </a:solidFill>
                  <a:latin typeface="Arial"/>
                  <a:ea typeface="Times New Roman"/>
                </a:rPr>
                <a:t>4 komponen PBS iaitu Pentaksiran Pusat,  Pentaksiran Sekolah, Pentaksiran Psikometrik dan Pentaksiran Aktiviti Jasmani, Sukan dan Kokurikulum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Rectangle 2" descr=""/>
          <p:cNvPicPr/>
          <p:nvPr/>
        </p:nvPicPr>
        <p:blipFill>
          <a:blip r:embed="rId1"/>
          <a:stretch/>
        </p:blipFill>
        <p:spPr>
          <a:xfrm>
            <a:off x="1463760" y="2865600"/>
            <a:ext cx="6315120" cy="768240"/>
          </a:xfrm>
          <a:prstGeom prst="rect">
            <a:avLst/>
          </a:prstGeom>
          <a:ln w="0">
            <a:noFill/>
          </a:ln>
        </p:spPr>
      </p:pic>
      <p:grpSp>
        <p:nvGrpSpPr>
          <p:cNvPr id="698" name="Rounded Rectangle 4"/>
          <p:cNvGrpSpPr/>
          <p:nvPr/>
        </p:nvGrpSpPr>
        <p:grpSpPr>
          <a:xfrm>
            <a:off x="1311120" y="1414440"/>
            <a:ext cx="6442200" cy="4297320"/>
            <a:chOff x="1311120" y="1414440"/>
            <a:chExt cx="6442200" cy="4297320"/>
          </a:xfrm>
        </p:grpSpPr>
        <p:pic>
          <p:nvPicPr>
            <p:cNvPr id="699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1311120" y="1414440"/>
              <a:ext cx="6442200" cy="429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1576440" y="1652760"/>
              <a:ext cx="5914800" cy="37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1" name="Rectangle 6"/>
          <p:cNvSpPr/>
          <p:nvPr/>
        </p:nvSpPr>
        <p:spPr>
          <a:xfrm>
            <a:off x="2819520" y="5791320"/>
            <a:ext cx="403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ilaksanakan oleh sekolah dengan  instrumen dan garis panduan dari L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Group 26"/>
          <p:cNvGrpSpPr/>
          <p:nvPr/>
        </p:nvGrpSpPr>
        <p:grpSpPr>
          <a:xfrm>
            <a:off x="2209680" y="1676520"/>
            <a:ext cx="3505320" cy="3733560"/>
            <a:chOff x="2209680" y="1676520"/>
            <a:chExt cx="3505320" cy="3733560"/>
          </a:xfrm>
        </p:grpSpPr>
        <p:grpSp>
          <p:nvGrpSpPr>
            <p:cNvPr id="703" name="Flowchart: Connector 8"/>
            <p:cNvGrpSpPr/>
            <p:nvPr/>
          </p:nvGrpSpPr>
          <p:grpSpPr>
            <a:xfrm>
              <a:off x="2209680" y="1676520"/>
              <a:ext cx="3505320" cy="3733560"/>
              <a:chOff x="2209680" y="1676520"/>
              <a:chExt cx="3505320" cy="3733560"/>
            </a:xfrm>
          </p:grpSpPr>
          <p:pic>
            <p:nvPicPr>
              <p:cNvPr id="704" name="Flowchart: Connector 8" descr=""/>
              <p:cNvPicPr/>
              <p:nvPr/>
            </p:nvPicPr>
            <p:blipFill>
              <a:blip r:embed="rId3"/>
              <a:stretch/>
            </p:blipFill>
            <p:spPr>
              <a:xfrm>
                <a:off x="2209680" y="1676520"/>
                <a:ext cx="3505320" cy="373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5" name=""/>
              <p:cNvSpPr/>
              <p:nvPr/>
            </p:nvSpPr>
            <p:spPr>
              <a:xfrm>
                <a:off x="2762640" y="2242800"/>
                <a:ext cx="2399400" cy="256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06" name="Rectangle 9" descr=""/>
            <p:cNvPicPr/>
            <p:nvPr/>
          </p:nvPicPr>
          <p:blipFill>
            <a:blip r:embed="rId4"/>
            <a:stretch/>
          </p:blipFill>
          <p:spPr>
            <a:xfrm>
              <a:off x="2740680" y="2066760"/>
              <a:ext cx="1965240" cy="875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7" name="Group 28"/>
          <p:cNvGrpSpPr/>
          <p:nvPr/>
        </p:nvGrpSpPr>
        <p:grpSpPr>
          <a:xfrm>
            <a:off x="4191120" y="1828800"/>
            <a:ext cx="3547800" cy="3352680"/>
            <a:chOff x="4191120" y="1828800"/>
            <a:chExt cx="3547800" cy="3352680"/>
          </a:xfrm>
        </p:grpSpPr>
        <p:grpSp>
          <p:nvGrpSpPr>
            <p:cNvPr id="708" name="Flowchart: Connector 11"/>
            <p:cNvGrpSpPr/>
            <p:nvPr/>
          </p:nvGrpSpPr>
          <p:grpSpPr>
            <a:xfrm>
              <a:off x="4191120" y="1828800"/>
              <a:ext cx="3524040" cy="3352680"/>
              <a:chOff x="4191120" y="1828800"/>
              <a:chExt cx="3524040" cy="3352680"/>
            </a:xfrm>
          </p:grpSpPr>
          <p:pic>
            <p:nvPicPr>
              <p:cNvPr id="709" name="Flowchart: Connector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1120" y="1828800"/>
                <a:ext cx="3524040" cy="335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0" name=""/>
              <p:cNvSpPr/>
              <p:nvPr/>
            </p:nvSpPr>
            <p:spPr>
              <a:xfrm>
                <a:off x="4747320" y="2339640"/>
                <a:ext cx="2411640" cy="229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11" name="Rectangle 12" descr=""/>
            <p:cNvPicPr/>
            <p:nvPr/>
          </p:nvPicPr>
          <p:blipFill>
            <a:blip r:embed="rId6"/>
            <a:stretch/>
          </p:blipFill>
          <p:spPr>
            <a:xfrm>
              <a:off x="4537800" y="2046960"/>
              <a:ext cx="3201120" cy="84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2" name="Left Arrow 13"/>
          <p:cNvSpPr/>
          <p:nvPr/>
        </p:nvSpPr>
        <p:spPr>
          <a:xfrm>
            <a:off x="1295280" y="3429000"/>
            <a:ext cx="1219320" cy="304920"/>
          </a:xfrm>
          <a:prstGeom prst="leftArrow">
            <a:avLst>
              <a:gd name="adj1" fmla="val 50000"/>
              <a:gd name="adj2" fmla="val 49985"/>
            </a:avLst>
          </a:prstGeom>
          <a:solidFill>
            <a:srgbClr val="0070c0"/>
          </a:solidFill>
          <a:ln w="25560">
            <a:solidFill>
              <a:srgbClr val="207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14"/>
          <p:cNvSpPr/>
          <p:nvPr/>
        </p:nvSpPr>
        <p:spPr>
          <a:xfrm>
            <a:off x="7543800" y="297180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laksanakan sepenuhnya oleh sekol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TextBox 15"/>
          <p:cNvGrpSpPr/>
          <p:nvPr/>
        </p:nvGrpSpPr>
        <p:grpSpPr>
          <a:xfrm>
            <a:off x="2610000" y="2932200"/>
            <a:ext cx="2017440" cy="2431800"/>
            <a:chOff x="2610000" y="2932200"/>
            <a:chExt cx="2017440" cy="2431800"/>
          </a:xfrm>
        </p:grpSpPr>
        <p:pic>
          <p:nvPicPr>
            <p:cNvPr id="715" name="TextBox 15" descr=""/>
            <p:cNvPicPr/>
            <p:nvPr/>
          </p:nvPicPr>
          <p:blipFill>
            <a:blip r:embed="rId7"/>
            <a:stretch/>
          </p:blipFill>
          <p:spPr>
            <a:xfrm>
              <a:off x="2610000" y="2932200"/>
              <a:ext cx="2017440" cy="243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" name=""/>
            <p:cNvSpPr/>
            <p:nvPr/>
          </p:nvSpPr>
          <p:spPr>
            <a:xfrm>
              <a:off x="2666880" y="2971800"/>
              <a:ext cx="1905120" cy="228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102940"/>
                  </a:solidFill>
                  <a:uFillTx/>
                  <a:latin typeface="Verdana"/>
                </a:rPr>
                <a:t>Peperiksaa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102940"/>
                  </a:solidFill>
                  <a:uFillTx/>
                  <a:latin typeface="Verdana"/>
                </a:rPr>
                <a:t>Pus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erdana"/>
                </a:rPr>
                <a:t>60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M’MATI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SAI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TextBox 16"/>
          <p:cNvGrpSpPr/>
          <p:nvPr/>
        </p:nvGrpSpPr>
        <p:grpSpPr>
          <a:xfrm>
            <a:off x="5578560" y="2859120"/>
            <a:ext cx="2174760" cy="858960"/>
            <a:chOff x="5578560" y="2859120"/>
            <a:chExt cx="2174760" cy="858960"/>
          </a:xfrm>
        </p:grpSpPr>
        <p:pic>
          <p:nvPicPr>
            <p:cNvPr id="718" name="TextBox 16" descr=""/>
            <p:cNvPicPr/>
            <p:nvPr/>
          </p:nvPicPr>
          <p:blipFill>
            <a:blip r:embed="rId8"/>
            <a:stretch/>
          </p:blipFill>
          <p:spPr>
            <a:xfrm>
              <a:off x="5578560" y="2859120"/>
              <a:ext cx="217476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"/>
            <p:cNvSpPr/>
            <p:nvPr/>
          </p:nvSpPr>
          <p:spPr>
            <a:xfrm>
              <a:off x="5638680" y="289548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Verdana"/>
                </a:rPr>
                <a:t>Pentaksiran sekola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MP Teras &amp; elekt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TextBox 18"/>
          <p:cNvGrpSpPr/>
          <p:nvPr/>
        </p:nvGrpSpPr>
        <p:grpSpPr>
          <a:xfrm>
            <a:off x="4133880" y="2828880"/>
            <a:ext cx="1560600" cy="1603440"/>
            <a:chOff x="4133880" y="2828880"/>
            <a:chExt cx="1560600" cy="1603440"/>
          </a:xfrm>
        </p:grpSpPr>
        <p:pic>
          <p:nvPicPr>
            <p:cNvPr id="721" name="TextBox 18" descr=""/>
            <p:cNvPicPr/>
            <p:nvPr/>
          </p:nvPicPr>
          <p:blipFill>
            <a:blip r:embed="rId9"/>
            <a:stretch/>
          </p:blipFill>
          <p:spPr>
            <a:xfrm>
              <a:off x="4133880" y="2828880"/>
              <a:ext cx="156060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2" name=""/>
            <p:cNvSpPr/>
            <p:nvPr/>
          </p:nvSpPr>
          <p:spPr>
            <a:xfrm>
              <a:off x="4191120" y="2865600"/>
              <a:ext cx="1447560" cy="12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Verdana"/>
                </a:rPr>
                <a:t>Pentaksiran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Pus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d4500"/>
                  </a:solidFill>
                  <a:latin typeface="Verdana"/>
                </a:rPr>
                <a:t>Kerja Kurs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67863"/>
                  </a:solidFill>
                  <a:latin typeface="Verdana"/>
                </a:rPr>
                <a:t>Projek</a:t>
              </a: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400" spc="-1" strike="noStrike">
                  <a:solidFill>
                    <a:srgbClr val="003300"/>
                  </a:solidFill>
                  <a:latin typeface="Verdana"/>
                </a:rPr>
                <a:t>Lis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Oval 19"/>
          <p:cNvGrpSpPr/>
          <p:nvPr/>
        </p:nvGrpSpPr>
        <p:grpSpPr>
          <a:xfrm>
            <a:off x="1542960" y="4840200"/>
            <a:ext cx="1255680" cy="798480"/>
            <a:chOff x="1542960" y="4840200"/>
            <a:chExt cx="1255680" cy="798480"/>
          </a:xfrm>
        </p:grpSpPr>
        <p:pic>
          <p:nvPicPr>
            <p:cNvPr id="724" name="Oval 19" descr=""/>
            <p:cNvPicPr/>
            <p:nvPr/>
          </p:nvPicPr>
          <p:blipFill>
            <a:blip r:embed="rId10"/>
            <a:stretch/>
          </p:blipFill>
          <p:spPr>
            <a:xfrm>
              <a:off x="1542960" y="4840200"/>
              <a:ext cx="12556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5" name=""/>
            <p:cNvSpPr/>
            <p:nvPr/>
          </p:nvSpPr>
          <p:spPr>
            <a:xfrm>
              <a:off x="1766880" y="4976640"/>
              <a:ext cx="80964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TextBox 20"/>
          <p:cNvGrpSpPr/>
          <p:nvPr/>
        </p:nvGrpSpPr>
        <p:grpSpPr>
          <a:xfrm>
            <a:off x="1463760" y="4913280"/>
            <a:ext cx="1334880" cy="646200"/>
            <a:chOff x="1463760" y="4913280"/>
            <a:chExt cx="1334880" cy="646200"/>
          </a:xfrm>
        </p:grpSpPr>
        <p:pic>
          <p:nvPicPr>
            <p:cNvPr id="727" name="TextBox 20" descr=""/>
            <p:cNvPicPr/>
            <p:nvPr/>
          </p:nvPicPr>
          <p:blipFill>
            <a:blip r:embed="rId11"/>
            <a:stretch/>
          </p:blipFill>
          <p:spPr>
            <a:xfrm>
              <a:off x="1463760" y="4913280"/>
              <a:ext cx="13348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>
              <a:off x="1523880" y="4952880"/>
              <a:ext cx="121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UJIAN APTITU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Rectangle 22"/>
          <p:cNvSpPr/>
          <p:nvPr/>
        </p:nvSpPr>
        <p:spPr>
          <a:xfrm>
            <a:off x="304920" y="294480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laksana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kan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leh LP seperti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PSR sekar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eft Arrow 23"/>
          <p:cNvSpPr/>
          <p:nvPr/>
        </p:nvSpPr>
        <p:spPr>
          <a:xfrm rot="10800000">
            <a:off x="7162920" y="3123720"/>
            <a:ext cx="650880" cy="304920"/>
          </a:xfrm>
          <a:prstGeom prst="leftArrow">
            <a:avLst>
              <a:gd name="adj1" fmla="val 50000"/>
              <a:gd name="adj2" fmla="val 49985"/>
            </a:avLst>
          </a:prstGeom>
          <a:solidFill>
            <a:srgbClr val="0070c0"/>
          </a:solidFill>
          <a:ln w="25560">
            <a:solidFill>
              <a:srgbClr val="2077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Left Arrow 24"/>
          <p:cNvGrpSpPr/>
          <p:nvPr/>
        </p:nvGrpSpPr>
        <p:grpSpPr>
          <a:xfrm>
            <a:off x="4743360" y="4383000"/>
            <a:ext cx="493920" cy="1573200"/>
            <a:chOff x="4743360" y="4383000"/>
            <a:chExt cx="493920" cy="1573200"/>
          </a:xfrm>
        </p:grpSpPr>
        <p:pic>
          <p:nvPicPr>
            <p:cNvPr id="732" name="Left Arrow 24" descr=""/>
            <p:cNvPicPr/>
            <p:nvPr/>
          </p:nvPicPr>
          <p:blipFill>
            <a:blip r:embed="rId12"/>
            <a:stretch/>
          </p:blipFill>
          <p:spPr>
            <a:xfrm>
              <a:off x="4743360" y="4383000"/>
              <a:ext cx="49392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 rot="16200000">
              <a:off x="4314960" y="5000400"/>
              <a:ext cx="13525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TextBox 25"/>
          <p:cNvGrpSpPr/>
          <p:nvPr/>
        </p:nvGrpSpPr>
        <p:grpSpPr>
          <a:xfrm>
            <a:off x="5121360" y="3419640"/>
            <a:ext cx="1706400" cy="780840"/>
            <a:chOff x="5121360" y="3419640"/>
            <a:chExt cx="1706400" cy="780840"/>
          </a:xfrm>
        </p:grpSpPr>
        <p:pic>
          <p:nvPicPr>
            <p:cNvPr id="735" name="TextBox 25" descr=""/>
            <p:cNvPicPr/>
            <p:nvPr/>
          </p:nvPicPr>
          <p:blipFill>
            <a:blip r:embed="rId13"/>
            <a:stretch/>
          </p:blipFill>
          <p:spPr>
            <a:xfrm>
              <a:off x="5121360" y="3419640"/>
              <a:ext cx="170640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"/>
            <p:cNvSpPr/>
            <p:nvPr/>
          </p:nvSpPr>
          <p:spPr>
            <a:xfrm>
              <a:off x="5334120" y="3530520"/>
              <a:ext cx="1295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Verdana"/>
                </a:rPr>
                <a:t>40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TextBox 27"/>
          <p:cNvGrpSpPr/>
          <p:nvPr/>
        </p:nvGrpSpPr>
        <p:grpSpPr>
          <a:xfrm>
            <a:off x="5273640" y="4529160"/>
            <a:ext cx="1639800" cy="433440"/>
            <a:chOff x="5273640" y="4529160"/>
            <a:chExt cx="1639800" cy="433440"/>
          </a:xfrm>
        </p:grpSpPr>
        <p:pic>
          <p:nvPicPr>
            <p:cNvPr id="738" name="TextBox 27" descr=""/>
            <p:cNvPicPr/>
            <p:nvPr/>
          </p:nvPicPr>
          <p:blipFill>
            <a:blip r:embed="rId14"/>
            <a:stretch/>
          </p:blipFill>
          <p:spPr>
            <a:xfrm>
              <a:off x="5273640" y="4529160"/>
              <a:ext cx="1639800" cy="43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"/>
            <p:cNvSpPr/>
            <p:nvPr/>
          </p:nvSpPr>
          <p:spPr>
            <a:xfrm>
              <a:off x="5334120" y="456876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Verdana"/>
                </a:rPr>
                <a:t>PAJS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Oval 28"/>
          <p:cNvGrpSpPr/>
          <p:nvPr/>
        </p:nvGrpSpPr>
        <p:grpSpPr>
          <a:xfrm>
            <a:off x="6114960" y="4919760"/>
            <a:ext cx="1486080" cy="792000"/>
            <a:chOff x="6114960" y="4919760"/>
            <a:chExt cx="1486080" cy="792000"/>
          </a:xfrm>
        </p:grpSpPr>
        <p:pic>
          <p:nvPicPr>
            <p:cNvPr id="741" name="Oval 28" descr=""/>
            <p:cNvPicPr/>
            <p:nvPr/>
          </p:nvPicPr>
          <p:blipFill>
            <a:blip r:embed="rId15"/>
            <a:stretch/>
          </p:blipFill>
          <p:spPr>
            <a:xfrm>
              <a:off x="6114960" y="4919760"/>
              <a:ext cx="148608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"/>
            <p:cNvSpPr/>
            <p:nvPr/>
          </p:nvSpPr>
          <p:spPr>
            <a:xfrm>
              <a:off x="6373800" y="5052960"/>
              <a:ext cx="96840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TextBox 26"/>
          <p:cNvGrpSpPr/>
          <p:nvPr/>
        </p:nvGrpSpPr>
        <p:grpSpPr>
          <a:xfrm>
            <a:off x="6035760" y="4992840"/>
            <a:ext cx="1639800" cy="645840"/>
            <a:chOff x="6035760" y="4992840"/>
            <a:chExt cx="1639800" cy="645840"/>
          </a:xfrm>
        </p:grpSpPr>
        <p:pic>
          <p:nvPicPr>
            <p:cNvPr id="744" name="TextBox 26" descr=""/>
            <p:cNvPicPr/>
            <p:nvPr/>
          </p:nvPicPr>
          <p:blipFill>
            <a:blip r:embed="rId16"/>
            <a:stretch/>
          </p:blipFill>
          <p:spPr>
            <a:xfrm>
              <a:off x="6035760" y="4992840"/>
              <a:ext cx="163980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"/>
            <p:cNvSpPr/>
            <p:nvPr/>
          </p:nvSpPr>
          <p:spPr>
            <a:xfrm>
              <a:off x="6095880" y="5029200"/>
              <a:ext cx="152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ffffff"/>
                  </a:solidFill>
                  <a:uFillTx/>
                  <a:latin typeface="Verdana"/>
                </a:rPr>
                <a:t>Pentaksiran Psikometri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BK00003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Oval 3"/>
          <p:cNvSpPr/>
          <p:nvPr/>
        </p:nvSpPr>
        <p:spPr>
          <a:xfrm>
            <a:off x="6324480" y="0"/>
            <a:ext cx="2819520" cy="2590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4"/>
          <p:cNvSpPr/>
          <p:nvPr/>
        </p:nvSpPr>
        <p:spPr>
          <a:xfrm>
            <a:off x="3352680" y="380880"/>
            <a:ext cx="1981440" cy="19814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5"/>
          <p:cNvSpPr/>
          <p:nvPr/>
        </p:nvSpPr>
        <p:spPr>
          <a:xfrm>
            <a:off x="0" y="457200"/>
            <a:ext cx="2286000" cy="15238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0" y="9144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j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3200400" y="9144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sp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6400800" y="53352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rkah  / G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9"/>
          <p:cNvSpPr/>
          <p:nvPr/>
        </p:nvSpPr>
        <p:spPr>
          <a:xfrm rot="16220400">
            <a:off x="2662200" y="758160"/>
            <a:ext cx="385560" cy="989280"/>
          </a:xfrm>
          <a:prstGeom prst="downArrow">
            <a:avLst>
              <a:gd name="adj1" fmla="val 50000"/>
              <a:gd name="adj2" fmla="val 6414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0"/>
          <p:cNvSpPr/>
          <p:nvPr/>
        </p:nvSpPr>
        <p:spPr>
          <a:xfrm rot="16172400">
            <a:off x="5559120" y="835920"/>
            <a:ext cx="460440" cy="762120"/>
          </a:xfrm>
          <a:prstGeom prst="downArrow">
            <a:avLst>
              <a:gd name="adj1" fmla="val 50000"/>
              <a:gd name="adj2" fmla="val 4138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WordArt 11"/>
          <p:cNvSpPr txBox="1"/>
          <p:nvPr/>
        </p:nvSpPr>
        <p:spPr>
          <a:xfrm>
            <a:off x="1143000" y="274320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eri makna kepada markah / gred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1508040" y="3886200"/>
            <a:ext cx="604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Laporan sejauh mana murid itu telah peroleh dan cap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WordArt 13"/>
          <p:cNvSpPr txBox="1"/>
          <p:nvPr/>
        </p:nvSpPr>
        <p:spPr>
          <a:xfrm>
            <a:off x="1981080" y="5105520"/>
            <a:ext cx="49532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ertumbuh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AutoShape 3"/>
          <p:cNvSpPr/>
          <p:nvPr/>
        </p:nvSpPr>
        <p:spPr>
          <a:xfrm>
            <a:off x="2133720" y="1219320"/>
            <a:ext cx="5715000" cy="50292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eeeeee"/>
              </a:gs>
              <a:gs pos="100000">
                <a:srgbClr val="dddddd"/>
              </a:gs>
            </a:gsLst>
            <a:lin ang="27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2357280" y="1933560"/>
            <a:ext cx="1073160" cy="80964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0066cc"/>
              </a:gs>
              <a:gs pos="100000">
                <a:srgbClr val="00478e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Freeform 5"/>
          <p:cNvGrpSpPr/>
          <p:nvPr/>
        </p:nvGrpSpPr>
        <p:grpSpPr>
          <a:xfrm>
            <a:off x="2419200" y="1981080"/>
            <a:ext cx="543240" cy="407880"/>
            <a:chOff x="2419200" y="1981080"/>
            <a:chExt cx="543240" cy="407880"/>
          </a:xfrm>
        </p:grpSpPr>
        <p:pic>
          <p:nvPicPr>
            <p:cNvPr id="209" name="Freeform 5" descr=""/>
            <p:cNvPicPr/>
            <p:nvPr/>
          </p:nvPicPr>
          <p:blipFill>
            <a:blip r:embed="rId1"/>
            <a:stretch/>
          </p:blipFill>
          <p:spPr>
            <a:xfrm>
              <a:off x="2419200" y="1981080"/>
              <a:ext cx="543240" cy="40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2425680" y="1983960"/>
              <a:ext cx="53496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Text Box 6"/>
          <p:cNvSpPr/>
          <p:nvPr/>
        </p:nvSpPr>
        <p:spPr>
          <a:xfrm>
            <a:off x="2621880" y="214632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3494160" y="2070000"/>
            <a:ext cx="408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940"/>
                </a:solidFill>
                <a:latin typeface="Arial"/>
              </a:rPr>
              <a:t>Pentaksiran Sekol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2357280" y="3000240"/>
            <a:ext cx="1073160" cy="80964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007f00"/>
              </a:gs>
              <a:gs pos="100000">
                <a:srgbClr val="00db00"/>
              </a:gs>
            </a:gsLst>
            <a:lin ang="162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0"/>
          <p:cNvSpPr/>
          <p:nvPr/>
        </p:nvSpPr>
        <p:spPr>
          <a:xfrm>
            <a:off x="2425680" y="3051000"/>
            <a:ext cx="534960" cy="406440"/>
          </a:xfrm>
          <a:custGeom>
            <a:avLst/>
            <a:gdLst>
              <a:gd name="textAreaLeft" fmla="*/ 0 w 534960"/>
              <a:gd name="textAreaRight" fmla="*/ 535320 w 53496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bef397"/>
              </a:gs>
              <a:gs pos="100000">
                <a:srgbClr val="eafae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2621880" y="3213000"/>
            <a:ext cx="51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3494160" y="3137040"/>
            <a:ext cx="408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940"/>
                </a:solidFill>
                <a:latin typeface="Arial"/>
              </a:rPr>
              <a:t>Pentaksiran Pus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2357280" y="4067280"/>
            <a:ext cx="1073160" cy="80964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9d7d1d"/>
              </a:gs>
              <a:gs pos="100000">
                <a:srgbClr val="ffd83a"/>
              </a:gs>
            </a:gsLst>
            <a:lin ang="162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15"/>
          <p:cNvSpPr/>
          <p:nvPr/>
        </p:nvSpPr>
        <p:spPr>
          <a:xfrm>
            <a:off x="2425680" y="4118040"/>
            <a:ext cx="534960" cy="406440"/>
          </a:xfrm>
          <a:custGeom>
            <a:avLst/>
            <a:gdLst>
              <a:gd name="textAreaLeft" fmla="*/ 0 w 534960"/>
              <a:gd name="textAreaRight" fmla="*/ 535320 w 53496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fff3a2"/>
              </a:gs>
              <a:gs pos="100000">
                <a:srgbClr val="fffa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2386440" y="4260960"/>
            <a:ext cx="9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J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3"/>
          <p:cNvSpPr/>
          <p:nvPr/>
        </p:nvSpPr>
        <p:spPr>
          <a:xfrm>
            <a:off x="3494160" y="4013280"/>
            <a:ext cx="45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940"/>
                </a:solidFill>
                <a:latin typeface="Arial"/>
              </a:rPr>
              <a:t>Pentaksiran Aktiviti Jasmani, Sukan dan Kokurik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2357280" y="5133960"/>
            <a:ext cx="1073160" cy="80964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a00000"/>
              </a:gs>
              <a:gs pos="100000">
                <a:srgbClr val="ff0000"/>
              </a:gs>
            </a:gsLst>
            <a:lin ang="162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20"/>
          <p:cNvSpPr/>
          <p:nvPr/>
        </p:nvSpPr>
        <p:spPr>
          <a:xfrm>
            <a:off x="2425680" y="5184720"/>
            <a:ext cx="534960" cy="406440"/>
          </a:xfrm>
          <a:custGeom>
            <a:avLst/>
            <a:gdLst>
              <a:gd name="textAreaLeft" fmla="*/ 0 w 534960"/>
              <a:gd name="textAreaRight" fmla="*/ 535320 w 53496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f38a8a"/>
              </a:gs>
              <a:gs pos="100000">
                <a:srgbClr val="faddd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2527200" y="532764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P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3494160" y="5270400"/>
            <a:ext cx="408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940"/>
                </a:solidFill>
                <a:latin typeface="Arial"/>
              </a:rPr>
              <a:t>Pentaksiran Psikometr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Rounded Rectangle 23"/>
          <p:cNvGrpSpPr/>
          <p:nvPr/>
        </p:nvGrpSpPr>
        <p:grpSpPr>
          <a:xfrm>
            <a:off x="2316240" y="560520"/>
            <a:ext cx="5443560" cy="1176120"/>
            <a:chOff x="2316240" y="560520"/>
            <a:chExt cx="5443560" cy="1176120"/>
          </a:xfrm>
        </p:grpSpPr>
        <p:pic>
          <p:nvPicPr>
            <p:cNvPr id="226" name="Rounded Rectangle 23" descr="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2316240" y="560520"/>
              <a:ext cx="544356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2398680" y="646200"/>
              <a:ext cx="495612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ntaksiran Berasaskan Sekola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97"/>
          <p:cNvGrpSpPr/>
          <p:nvPr/>
        </p:nvGrpSpPr>
        <p:grpSpPr>
          <a:xfrm>
            <a:off x="990720" y="304920"/>
            <a:ext cx="1465200" cy="1447560"/>
            <a:chOff x="990720" y="304920"/>
            <a:chExt cx="1465200" cy="1447560"/>
          </a:xfrm>
        </p:grpSpPr>
        <p:grpSp>
          <p:nvGrpSpPr>
            <p:cNvPr id="229" name="Group 75"/>
            <p:cNvGrpSpPr/>
            <p:nvPr/>
          </p:nvGrpSpPr>
          <p:grpSpPr>
            <a:xfrm>
              <a:off x="990720" y="304920"/>
              <a:ext cx="1465200" cy="1447560"/>
              <a:chOff x="990720" y="304920"/>
              <a:chExt cx="1465200" cy="1447560"/>
            </a:xfrm>
          </p:grpSpPr>
          <p:sp>
            <p:nvSpPr>
              <p:cNvPr id="230" name="Oval 76"/>
              <p:cNvSpPr/>
              <p:nvPr/>
            </p:nvSpPr>
            <p:spPr>
              <a:xfrm>
                <a:off x="990720" y="304920"/>
                <a:ext cx="1465200" cy="1447560"/>
              </a:xfrm>
              <a:prstGeom prst="ellipse">
                <a:avLst/>
              </a:prstGeom>
              <a:gradFill rotWithShape="0">
                <a:gsLst>
                  <a:gs pos="0">
                    <a:srgbClr val="9942e0"/>
                  </a:gs>
                  <a:gs pos="100000">
                    <a:srgbClr val="471f68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77"/>
              <p:cNvSpPr/>
              <p:nvPr/>
            </p:nvSpPr>
            <p:spPr>
              <a:xfrm>
                <a:off x="1158120" y="328680"/>
                <a:ext cx="1130400" cy="546120"/>
              </a:xfrm>
              <a:custGeom>
                <a:avLst/>
                <a:gdLst>
                  <a:gd name="textAreaLeft" fmla="*/ 0 w 1130400"/>
                  <a:gd name="textAreaRight" fmla="*/ 1130760 w 1130400"/>
                  <a:gd name="textAreaTop" fmla="*/ 0 h 546120"/>
                  <a:gd name="textAreaBottom" fmla="*/ 546480 h 5461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42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Text Box 84"/>
            <p:cNvSpPr/>
            <p:nvPr/>
          </p:nvSpPr>
          <p:spPr>
            <a:xfrm>
              <a:off x="1123920" y="685800"/>
              <a:ext cx="1119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Verdana"/>
                </a:rPr>
                <a:t>PB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AutoShape 18"/>
          <p:cNvGrpSpPr/>
          <p:nvPr/>
        </p:nvGrpSpPr>
        <p:grpSpPr>
          <a:xfrm>
            <a:off x="5505480" y="3060720"/>
            <a:ext cx="2400120" cy="1127160"/>
            <a:chOff x="5505480" y="3060720"/>
            <a:chExt cx="2400120" cy="1127160"/>
          </a:xfrm>
        </p:grpSpPr>
        <p:pic>
          <p:nvPicPr>
            <p:cNvPr id="234" name="AutoShape 18" descr=""/>
            <p:cNvPicPr/>
            <p:nvPr/>
          </p:nvPicPr>
          <p:blipFill>
            <a:blip r:embed="rId1"/>
            <a:stretch/>
          </p:blipFill>
          <p:spPr>
            <a:xfrm>
              <a:off x="5505480" y="3060720"/>
              <a:ext cx="240012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5611680" y="3144960"/>
              <a:ext cx="2187720" cy="92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AutoShape 20"/>
          <p:cNvGrpSpPr/>
          <p:nvPr/>
        </p:nvGrpSpPr>
        <p:grpSpPr>
          <a:xfrm>
            <a:off x="1085760" y="3060720"/>
            <a:ext cx="2400480" cy="1054080"/>
            <a:chOff x="1085760" y="3060720"/>
            <a:chExt cx="2400480" cy="1054080"/>
          </a:xfrm>
        </p:grpSpPr>
        <p:pic>
          <p:nvPicPr>
            <p:cNvPr id="237" name="AutoShape 20" descr=""/>
            <p:cNvPicPr/>
            <p:nvPr/>
          </p:nvPicPr>
          <p:blipFill>
            <a:blip r:embed="rId2"/>
            <a:stretch/>
          </p:blipFill>
          <p:spPr>
            <a:xfrm>
              <a:off x="1085760" y="3060720"/>
              <a:ext cx="24004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1189080" y="3141720"/>
              <a:ext cx="2193840" cy="8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9" name="Text Box 21" descr=""/>
          <p:cNvPicPr/>
          <p:nvPr/>
        </p:nvPicPr>
        <p:blipFill>
          <a:blip r:embed="rId3"/>
          <a:stretch/>
        </p:blipFill>
        <p:spPr>
          <a:xfrm>
            <a:off x="1200240" y="3243240"/>
            <a:ext cx="2073240" cy="517680"/>
          </a:xfrm>
          <a:prstGeom prst="rect">
            <a:avLst/>
          </a:prstGeom>
          <a:ln w="0">
            <a:noFill/>
          </a:ln>
        </p:spPr>
      </p:pic>
      <p:sp>
        <p:nvSpPr>
          <p:cNvPr id="240" name="AutoShape 22"/>
          <p:cNvSpPr/>
          <p:nvPr/>
        </p:nvSpPr>
        <p:spPr>
          <a:xfrm>
            <a:off x="3222720" y="29955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Freeform 23"/>
          <p:cNvGrpSpPr/>
          <p:nvPr/>
        </p:nvGrpSpPr>
        <p:grpSpPr>
          <a:xfrm>
            <a:off x="3328920" y="2938320"/>
            <a:ext cx="968400" cy="1305000"/>
            <a:chOff x="3328920" y="2938320"/>
            <a:chExt cx="968400" cy="1305000"/>
          </a:xfrm>
        </p:grpSpPr>
        <p:pic>
          <p:nvPicPr>
            <p:cNvPr id="242" name="Freeform 23" descr=""/>
            <p:cNvPicPr/>
            <p:nvPr/>
          </p:nvPicPr>
          <p:blipFill>
            <a:blip r:embed="rId4"/>
            <a:stretch/>
          </p:blipFill>
          <p:spPr>
            <a:xfrm>
              <a:off x="3328920" y="2938320"/>
              <a:ext cx="96840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3363840" y="2971800"/>
              <a:ext cx="903240" cy="12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AutoShape 24"/>
          <p:cNvSpPr/>
          <p:nvPr/>
        </p:nvSpPr>
        <p:spPr>
          <a:xfrm flipH="1">
            <a:off x="4869000" y="29955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25"/>
          <p:cNvSpPr/>
          <p:nvPr/>
        </p:nvSpPr>
        <p:spPr>
          <a:xfrm flipH="1">
            <a:off x="4799880" y="2971800"/>
            <a:ext cx="903240" cy="1241280"/>
          </a:xfrm>
          <a:custGeom>
            <a:avLst/>
            <a:gdLst>
              <a:gd name="textAreaLeft" fmla="*/ -360 w 903240"/>
              <a:gd name="textAreaRight" fmla="*/ 903240 w 903240"/>
              <a:gd name="textAreaTop" fmla="*/ 0 h 1241280"/>
              <a:gd name="textAreaBottom" fmla="*/ 1241640 h 124128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solidFill>
            <a:srgbClr val="00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26"/>
          <p:cNvGrpSpPr/>
          <p:nvPr/>
        </p:nvGrpSpPr>
        <p:grpSpPr>
          <a:xfrm>
            <a:off x="3048120" y="1371600"/>
            <a:ext cx="2998440" cy="1600920"/>
            <a:chOff x="3048120" y="1371600"/>
            <a:chExt cx="2998440" cy="1600920"/>
          </a:xfrm>
        </p:grpSpPr>
        <p:grpSp>
          <p:nvGrpSpPr>
            <p:cNvPr id="247" name="Group 27"/>
            <p:cNvGrpSpPr/>
            <p:nvPr/>
          </p:nvGrpSpPr>
          <p:grpSpPr>
            <a:xfrm>
              <a:off x="3048120" y="1514160"/>
              <a:ext cx="2998440" cy="1458360"/>
              <a:chOff x="3048120" y="1514160"/>
              <a:chExt cx="2998440" cy="1458360"/>
            </a:xfrm>
          </p:grpSpPr>
          <p:sp>
            <p:nvSpPr>
              <p:cNvPr id="248" name="Oval 28"/>
              <p:cNvSpPr/>
              <p:nvPr/>
            </p:nvSpPr>
            <p:spPr>
              <a:xfrm>
                <a:off x="3080880" y="15606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7e9ce8"/>
                  </a:gs>
                  <a:gs pos="100000">
                    <a:srgbClr val="0a3f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Oval 29"/>
              <p:cNvSpPr/>
              <p:nvPr/>
            </p:nvSpPr>
            <p:spPr>
              <a:xfrm>
                <a:off x="3048120" y="151416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97c7e0"/>
                  </a:gs>
                  <a:gs pos="100000">
                    <a:srgbClr val="7e9c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Oval 30"/>
            <p:cNvSpPr/>
            <p:nvPr/>
          </p:nvSpPr>
          <p:spPr>
            <a:xfrm>
              <a:off x="3189600" y="13716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164c3d"/>
                </a:gs>
                <a:gs pos="100000">
                  <a:srgbClr val="cc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1"/>
            <p:cNvSpPr/>
            <p:nvPr/>
          </p:nvSpPr>
          <p:spPr>
            <a:xfrm>
              <a:off x="3224520" y="137916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cccc00">
                    <a:alpha val="0"/>
                  </a:srgbClr>
                </a:gs>
                <a:gs pos="100000">
                  <a:srgbClr val="b7dfd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32"/>
            <p:cNvSpPr/>
            <p:nvPr/>
          </p:nvSpPr>
          <p:spPr>
            <a:xfrm>
              <a:off x="3251520" y="139212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268268"/>
                </a:gs>
                <a:gs pos="100000">
                  <a:srgbClr val="cccc00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33"/>
            <p:cNvSpPr/>
            <p:nvPr/>
          </p:nvSpPr>
          <p:spPr>
            <a:xfrm>
              <a:off x="3383280" y="141912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00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4" name="Text Box 34" descr=""/>
          <p:cNvPicPr/>
          <p:nvPr/>
        </p:nvPicPr>
        <p:blipFill>
          <a:blip r:embed="rId5"/>
          <a:stretch/>
        </p:blipFill>
        <p:spPr>
          <a:xfrm>
            <a:off x="3638520" y="1438200"/>
            <a:ext cx="1701720" cy="828720"/>
          </a:xfrm>
          <a:prstGeom prst="rect">
            <a:avLst/>
          </a:prstGeom>
          <a:ln w="0">
            <a:noFill/>
          </a:ln>
        </p:spPr>
      </p:pic>
      <p:pic>
        <p:nvPicPr>
          <p:cNvPr id="255" name="Text Box 35" descr=""/>
          <p:cNvPicPr/>
          <p:nvPr/>
        </p:nvPicPr>
        <p:blipFill>
          <a:blip r:embed="rId6"/>
          <a:stretch/>
        </p:blipFill>
        <p:spPr>
          <a:xfrm>
            <a:off x="5619600" y="3151080"/>
            <a:ext cx="2073600" cy="884520"/>
          </a:xfrm>
          <a:prstGeom prst="rect">
            <a:avLst/>
          </a:prstGeom>
          <a:ln w="0">
            <a:noFill/>
          </a:ln>
        </p:spPr>
      </p:pic>
      <p:grpSp>
        <p:nvGrpSpPr>
          <p:cNvPr id="256" name="AutoShape 20"/>
          <p:cNvGrpSpPr/>
          <p:nvPr/>
        </p:nvGrpSpPr>
        <p:grpSpPr>
          <a:xfrm>
            <a:off x="701640" y="4005360"/>
            <a:ext cx="3089160" cy="2316240"/>
            <a:chOff x="701640" y="4005360"/>
            <a:chExt cx="3089160" cy="2316240"/>
          </a:xfrm>
        </p:grpSpPr>
        <p:pic>
          <p:nvPicPr>
            <p:cNvPr id="257" name="AutoShape 20" descr=""/>
            <p:cNvPicPr/>
            <p:nvPr/>
          </p:nvPicPr>
          <p:blipFill>
            <a:blip r:embed="rId7"/>
            <a:stretch/>
          </p:blipFill>
          <p:spPr>
            <a:xfrm>
              <a:off x="701640" y="4005360"/>
              <a:ext cx="3089160" cy="23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870120" y="4146480"/>
              <a:ext cx="275580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AutoShape 18"/>
          <p:cNvGrpSpPr/>
          <p:nvPr/>
        </p:nvGrpSpPr>
        <p:grpSpPr>
          <a:xfrm>
            <a:off x="5121360" y="4078440"/>
            <a:ext cx="3241440" cy="2243160"/>
            <a:chOff x="5121360" y="4078440"/>
            <a:chExt cx="3241440" cy="2243160"/>
          </a:xfrm>
        </p:grpSpPr>
        <p:pic>
          <p:nvPicPr>
            <p:cNvPr id="260" name="AutoShape 18" descr=""/>
            <p:cNvPicPr/>
            <p:nvPr/>
          </p:nvPicPr>
          <p:blipFill>
            <a:blip r:embed="rId8"/>
            <a:stretch/>
          </p:blipFill>
          <p:spPr>
            <a:xfrm>
              <a:off x="5121360" y="4078440"/>
              <a:ext cx="324144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286240" y="4219560"/>
              <a:ext cx="2914920" cy="192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2" name="Text Box 21" descr=""/>
          <p:cNvPicPr/>
          <p:nvPr/>
        </p:nvPicPr>
        <p:blipFill>
          <a:blip r:embed="rId9"/>
          <a:stretch/>
        </p:blipFill>
        <p:spPr>
          <a:xfrm>
            <a:off x="743040" y="4138560"/>
            <a:ext cx="2884320" cy="1629000"/>
          </a:xfrm>
          <a:prstGeom prst="rect">
            <a:avLst/>
          </a:prstGeom>
          <a:ln w="0">
            <a:noFill/>
          </a:ln>
        </p:spPr>
      </p:pic>
      <p:pic>
        <p:nvPicPr>
          <p:cNvPr id="263" name="Text Box 35" descr=""/>
          <p:cNvPicPr/>
          <p:nvPr/>
        </p:nvPicPr>
        <p:blipFill>
          <a:blip r:embed="rId10"/>
          <a:stretch/>
        </p:blipFill>
        <p:spPr>
          <a:xfrm>
            <a:off x="5162400" y="4218120"/>
            <a:ext cx="300060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Text Box 6"/>
          <p:cNvGrpSpPr/>
          <p:nvPr/>
        </p:nvGrpSpPr>
        <p:grpSpPr>
          <a:xfrm>
            <a:off x="1755720" y="2577960"/>
            <a:ext cx="2035080" cy="847800"/>
            <a:chOff x="1755720" y="2577960"/>
            <a:chExt cx="2035080" cy="847800"/>
          </a:xfrm>
        </p:grpSpPr>
        <p:pic>
          <p:nvPicPr>
            <p:cNvPr id="265" name="Text Box 6" descr=""/>
            <p:cNvPicPr/>
            <p:nvPr/>
          </p:nvPicPr>
          <p:blipFill>
            <a:blip r:embed="rId1"/>
            <a:stretch/>
          </p:blipFill>
          <p:spPr>
            <a:xfrm>
              <a:off x="1755720" y="2577960"/>
              <a:ext cx="20350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1828800" y="2614680"/>
              <a:ext cx="1905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UJIAN APTITU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Aptitud Um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Aptitud Khus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Freeform 8"/>
          <p:cNvSpPr/>
          <p:nvPr/>
        </p:nvSpPr>
        <p:spPr>
          <a:xfrm>
            <a:off x="3733920" y="2362320"/>
            <a:ext cx="838080" cy="1066680"/>
          </a:xfrm>
          <a:prstGeom prst="pie">
            <a:avLst/>
          </a:prstGeom>
          <a:gradFill rotWithShape="0">
            <a:gsLst>
              <a:gs pos="0">
                <a:srgbClr val="669999"/>
              </a:gs>
              <a:gs pos="100000">
                <a:srgbClr val="dfbe5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11"/>
          <p:cNvGrpSpPr/>
          <p:nvPr/>
        </p:nvGrpSpPr>
        <p:grpSpPr>
          <a:xfrm>
            <a:off x="3276720" y="1143000"/>
            <a:ext cx="2743200" cy="1190160"/>
            <a:chOff x="3276720" y="1143000"/>
            <a:chExt cx="2743200" cy="1190160"/>
          </a:xfrm>
        </p:grpSpPr>
        <p:grpSp>
          <p:nvGrpSpPr>
            <p:cNvPr id="269" name="Group 12"/>
            <p:cNvGrpSpPr/>
            <p:nvPr/>
          </p:nvGrpSpPr>
          <p:grpSpPr>
            <a:xfrm>
              <a:off x="3276720" y="1251360"/>
              <a:ext cx="2743200" cy="1081800"/>
              <a:chOff x="3276720" y="1251360"/>
              <a:chExt cx="2743200" cy="1081800"/>
            </a:xfrm>
          </p:grpSpPr>
          <p:sp>
            <p:nvSpPr>
              <p:cNvPr id="270" name="Oval 13"/>
              <p:cNvSpPr/>
              <p:nvPr/>
            </p:nvSpPr>
            <p:spPr>
              <a:xfrm>
                <a:off x="3308040" y="1284840"/>
                <a:ext cx="2711880" cy="1048320"/>
              </a:xfrm>
              <a:prstGeom prst="ellipse">
                <a:avLst/>
              </a:prstGeom>
              <a:gradFill rotWithShape="0">
                <a:gsLst>
                  <a:gs pos="0">
                    <a:srgbClr val="7e9ce8"/>
                  </a:gs>
                  <a:gs pos="100000">
                    <a:srgbClr val="0a3f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Oval 14"/>
              <p:cNvSpPr/>
              <p:nvPr/>
            </p:nvSpPr>
            <p:spPr>
              <a:xfrm>
                <a:off x="3276720" y="1251360"/>
                <a:ext cx="2711520" cy="1049400"/>
              </a:xfrm>
              <a:prstGeom prst="ellipse">
                <a:avLst/>
              </a:prstGeom>
              <a:gradFill rotWithShape="0">
                <a:gsLst>
                  <a:gs pos="0">
                    <a:srgbClr val="97c7e0"/>
                  </a:gs>
                  <a:gs pos="100000">
                    <a:srgbClr val="7e9c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Oval 15"/>
            <p:cNvSpPr/>
            <p:nvPr/>
          </p:nvSpPr>
          <p:spPr>
            <a:xfrm>
              <a:off x="3405960" y="1143000"/>
              <a:ext cx="2453760" cy="996840"/>
            </a:xfrm>
            <a:prstGeom prst="ellipse">
              <a:avLst/>
            </a:prstGeom>
            <a:gradFill rotWithShape="0">
              <a:gsLst>
                <a:gs pos="0">
                  <a:srgbClr val="164c3d"/>
                </a:gs>
                <a:gs pos="100000">
                  <a:srgbClr val="cc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6"/>
            <p:cNvSpPr/>
            <p:nvPr/>
          </p:nvSpPr>
          <p:spPr>
            <a:xfrm>
              <a:off x="3439080" y="1147680"/>
              <a:ext cx="2400120" cy="973080"/>
            </a:xfrm>
            <a:prstGeom prst="ellipse">
              <a:avLst/>
            </a:prstGeom>
            <a:gradFill rotWithShape="0">
              <a:gsLst>
                <a:gs pos="0">
                  <a:srgbClr val="cccc00">
                    <a:alpha val="0"/>
                  </a:srgbClr>
                </a:gs>
                <a:gs pos="100000">
                  <a:srgbClr val="b7dfd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17"/>
            <p:cNvSpPr/>
            <p:nvPr/>
          </p:nvSpPr>
          <p:spPr>
            <a:xfrm>
              <a:off x="3463920" y="1158480"/>
              <a:ext cx="2278440" cy="908280"/>
            </a:xfrm>
            <a:prstGeom prst="ellipse">
              <a:avLst/>
            </a:prstGeom>
            <a:gradFill rotWithShape="0">
              <a:gsLst>
                <a:gs pos="0">
                  <a:srgbClr val="268268"/>
                </a:gs>
                <a:gs pos="100000">
                  <a:srgbClr val="cccc00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18"/>
            <p:cNvSpPr/>
            <p:nvPr/>
          </p:nvSpPr>
          <p:spPr>
            <a:xfrm>
              <a:off x="3583080" y="1178280"/>
              <a:ext cx="2008080" cy="735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00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 Box 19"/>
          <p:cNvSpPr/>
          <p:nvPr/>
        </p:nvSpPr>
        <p:spPr>
          <a:xfrm>
            <a:off x="3728880" y="1258920"/>
            <a:ext cx="185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Verdana"/>
              </a:rPr>
              <a:t>PENTAKSIR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Verdana"/>
              </a:rPr>
              <a:t>PSIKOMETR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Text Box 21"/>
          <p:cNvGrpSpPr/>
          <p:nvPr/>
        </p:nvGrpSpPr>
        <p:grpSpPr>
          <a:xfrm>
            <a:off x="5499000" y="2657520"/>
            <a:ext cx="1719360" cy="628560"/>
            <a:chOff x="5499000" y="2657520"/>
            <a:chExt cx="1719360" cy="628560"/>
          </a:xfrm>
        </p:grpSpPr>
        <p:pic>
          <p:nvPicPr>
            <p:cNvPr id="278" name="Text Box 21" descr=""/>
            <p:cNvPicPr/>
            <p:nvPr/>
          </p:nvPicPr>
          <p:blipFill>
            <a:blip r:embed="rId2"/>
            <a:stretch/>
          </p:blipFill>
          <p:spPr>
            <a:xfrm>
              <a:off x="5499000" y="2657520"/>
              <a:ext cx="171936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5562720" y="2693520"/>
              <a:ext cx="160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INVENTORI PERSONALIT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Freeform 10"/>
          <p:cNvSpPr/>
          <p:nvPr/>
        </p:nvSpPr>
        <p:spPr>
          <a:xfrm flipH="1">
            <a:off x="4658760" y="2362320"/>
            <a:ext cx="903240" cy="990360"/>
          </a:xfrm>
          <a:prstGeom prst="pie">
            <a:avLst/>
          </a:prstGeom>
          <a:gradFill rotWithShape="0">
            <a:gsLst>
              <a:gs pos="0">
                <a:srgbClr val="7e9ce8"/>
              </a:gs>
              <a:gs pos="100000">
                <a:srgbClr val="b4d7e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7"/>
          <p:cNvSpPr/>
          <p:nvPr/>
        </p:nvSpPr>
        <p:spPr>
          <a:xfrm>
            <a:off x="152280" y="1295280"/>
            <a:ext cx="34290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1500" spc="-1" strike="noStrike">
                <a:solidFill>
                  <a:srgbClr val="003300"/>
                </a:solidFill>
                <a:latin typeface="Verdana"/>
              </a:rPr>
              <a:t>Mengukur kebolehan semula jadi (</a:t>
            </a:r>
            <a:r>
              <a:rPr b="1" i="1" lang="ms-MY" sz="1500" spc="-1" strike="noStrike">
                <a:solidFill>
                  <a:srgbClr val="003300"/>
                </a:solidFill>
                <a:latin typeface="Verdana"/>
              </a:rPr>
              <a:t>innate ability</a:t>
            </a:r>
            <a:r>
              <a:rPr b="1" lang="ms-MY" sz="1500" spc="-1" strike="noStrike">
                <a:solidFill>
                  <a:srgbClr val="003300"/>
                </a:solidFill>
                <a:latin typeface="Verdana"/>
              </a:rPr>
              <a:t>) dan kebolehan yang diperoleh (</a:t>
            </a:r>
            <a:r>
              <a:rPr b="1" i="1" lang="ms-MY" sz="1500" spc="-1" strike="noStrike">
                <a:solidFill>
                  <a:srgbClr val="003300"/>
                </a:solidFill>
                <a:latin typeface="Verdana"/>
              </a:rPr>
              <a:t>acquired ability</a:t>
            </a:r>
            <a:r>
              <a:rPr b="1" lang="ms-MY" sz="1500" spc="-1" strike="noStrike">
                <a:solidFill>
                  <a:srgbClr val="003300"/>
                </a:solidFill>
                <a:latin typeface="Verdana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8"/>
          <p:cNvSpPr/>
          <p:nvPr/>
        </p:nvSpPr>
        <p:spPr>
          <a:xfrm>
            <a:off x="5943600" y="1295280"/>
            <a:ext cx="32004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1500" spc="-1" strike="noStrike">
                <a:solidFill>
                  <a:srgbClr val="003300"/>
                </a:solidFill>
                <a:latin typeface="Verdana"/>
              </a:rPr>
              <a:t>Tidak berasaskan kurikulum dan pengajaran pembelajara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1"/>
          <p:cNvSpPr/>
          <p:nvPr/>
        </p:nvSpPr>
        <p:spPr>
          <a:xfrm>
            <a:off x="152280" y="2362320"/>
            <a:ext cx="18288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00"/>
                </a:solidFill>
                <a:latin typeface="Verdana"/>
              </a:rPr>
              <a:t>Tidak berjadual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00"/>
                </a:solidFill>
                <a:latin typeface="Verdana"/>
              </a:rPr>
              <a:t>Dicadangkan kepada semua muri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2"/>
          <p:cNvSpPr/>
          <p:nvPr/>
        </p:nvSpPr>
        <p:spPr>
          <a:xfrm>
            <a:off x="7086600" y="2438280"/>
            <a:ext cx="22860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00"/>
                </a:solidFill>
                <a:latin typeface="Verdana"/>
              </a:rPr>
              <a:t>Tidak berjadual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113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00"/>
                </a:solidFill>
                <a:latin typeface="Verdana"/>
              </a:rPr>
              <a:t>Tidak diwajibkan untuk semua muri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Left-Right Arrow 21"/>
          <p:cNvGrpSpPr/>
          <p:nvPr/>
        </p:nvGrpSpPr>
        <p:grpSpPr>
          <a:xfrm>
            <a:off x="2895480" y="3581280"/>
            <a:ext cx="3700440" cy="3603600"/>
            <a:chOff x="2895480" y="3581280"/>
            <a:chExt cx="3700440" cy="3603600"/>
          </a:xfrm>
        </p:grpSpPr>
        <p:pic>
          <p:nvPicPr>
            <p:cNvPr id="286" name="Left-Right Arrow 21" descr=""/>
            <p:cNvPicPr/>
            <p:nvPr/>
          </p:nvPicPr>
          <p:blipFill>
            <a:blip r:embed="rId3"/>
            <a:stretch/>
          </p:blipFill>
          <p:spPr>
            <a:xfrm>
              <a:off x="2895480" y="3581280"/>
              <a:ext cx="3700440" cy="360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3479760" y="3978000"/>
              <a:ext cx="2216160" cy="24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23920" indent="-2239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LP sediakan  item /  instrumen  dan manual yang  komprehensif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23920" indent="-2239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Penskoran secara dikotomus, polikotomus, kadaran piliha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23920" indent="-2239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Pelaporan secara deskriptif dan individu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Slide Number Placeholder 2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1E69-BE12-45CE-BA26-80C007F7ACC7}" type="slidenum">
              <a:rPr b="0" lang="en-US" sz="1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26496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PENTAKSIRAN PSIKOMETRI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57200" y="3733920"/>
            <a:ext cx="2378160" cy="30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1600" spc="-1" strike="noStrike">
                <a:solidFill>
                  <a:srgbClr val="000000"/>
                </a:solidFill>
                <a:latin typeface="Arial"/>
              </a:rPr>
              <a:t>Mengenal pasti kecenderungan, kekuatan/kelemahan, minat, bakat dan kesediaan bagi menyediakan situasi pengajaran dan pembelajaran yang terbaik dan mewujudkan suasana pembelajaran yang aktif dan berkes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248520" y="3809880"/>
            <a:ext cx="2743200" cy="277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1600" spc="-1" strike="noStrike">
                <a:solidFill>
                  <a:srgbClr val="000000"/>
                </a:solidFill>
                <a:latin typeface="Arial"/>
              </a:rPr>
              <a:t>Mendapatkan maklumat tentang ciri-ciri perilaku unik dan stabil yang ada pada setiap individu untuk membimbing murid membentuk personaliti yang seimbang dan membantu guru menggunakan strategi pengajaran dan pembelajaran yang sesu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traight Connector 73"/>
          <p:cNvSpPr/>
          <p:nvPr/>
        </p:nvSpPr>
        <p:spPr>
          <a:xfrm>
            <a:off x="4419720" y="328464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traight Connector 64"/>
          <p:cNvSpPr/>
          <p:nvPr/>
        </p:nvSpPr>
        <p:spPr>
          <a:xfrm>
            <a:off x="7885080" y="2523960"/>
            <a:ext cx="0" cy="371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traight Connector 70"/>
          <p:cNvSpPr/>
          <p:nvPr/>
        </p:nvSpPr>
        <p:spPr>
          <a:xfrm>
            <a:off x="2590920" y="328464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traight Connector 74"/>
          <p:cNvSpPr/>
          <p:nvPr/>
        </p:nvSpPr>
        <p:spPr>
          <a:xfrm>
            <a:off x="7885080" y="328464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traight Connector 69"/>
          <p:cNvSpPr/>
          <p:nvPr/>
        </p:nvSpPr>
        <p:spPr>
          <a:xfrm>
            <a:off x="6172200" y="306864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traight Connector 67"/>
          <p:cNvSpPr/>
          <p:nvPr/>
        </p:nvSpPr>
        <p:spPr>
          <a:xfrm>
            <a:off x="914400" y="306864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traight Connector 51"/>
          <p:cNvSpPr/>
          <p:nvPr/>
        </p:nvSpPr>
        <p:spPr>
          <a:xfrm>
            <a:off x="4419720" y="2286000"/>
            <a:ext cx="0" cy="355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AutoShape 5"/>
          <p:cNvGrpSpPr/>
          <p:nvPr/>
        </p:nvGrpSpPr>
        <p:grpSpPr>
          <a:xfrm>
            <a:off x="3486240" y="2798640"/>
            <a:ext cx="1884240" cy="603360"/>
            <a:chOff x="3486240" y="2798640"/>
            <a:chExt cx="1884240" cy="603360"/>
          </a:xfrm>
        </p:grpSpPr>
        <p:pic>
          <p:nvPicPr>
            <p:cNvPr id="300" name="AutoShape 5" descr=""/>
            <p:cNvPicPr/>
            <p:nvPr/>
          </p:nvPicPr>
          <p:blipFill>
            <a:blip r:embed="rId1"/>
            <a:stretch/>
          </p:blipFill>
          <p:spPr>
            <a:xfrm>
              <a:off x="3486240" y="2798640"/>
              <a:ext cx="188424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3533760" y="2847960"/>
              <a:ext cx="179388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400" rIns="594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2f2f2"/>
                  </a:solidFill>
                  <a:latin typeface="Verdana"/>
                </a:rPr>
                <a:t>Aktiviti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2f2f2"/>
                  </a:solidFill>
                  <a:latin typeface="Verdana"/>
                </a:rPr>
                <a:t>Kokurikul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AutoShape 6"/>
          <p:cNvGrpSpPr/>
          <p:nvPr/>
        </p:nvGrpSpPr>
        <p:grpSpPr>
          <a:xfrm>
            <a:off x="1736640" y="2773440"/>
            <a:ext cx="1652760" cy="592200"/>
            <a:chOff x="1736640" y="2773440"/>
            <a:chExt cx="1652760" cy="592200"/>
          </a:xfrm>
        </p:grpSpPr>
        <p:pic>
          <p:nvPicPr>
            <p:cNvPr id="303" name="AutoShape 6" descr=""/>
            <p:cNvPicPr/>
            <p:nvPr/>
          </p:nvPicPr>
          <p:blipFill>
            <a:blip r:embed="rId2"/>
            <a:stretch/>
          </p:blipFill>
          <p:spPr>
            <a:xfrm>
              <a:off x="1736640" y="2773440"/>
              <a:ext cx="165276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1779480" y="2817720"/>
              <a:ext cx="156852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400" rIns="594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2f2f2"/>
                  </a:solidFill>
                  <a:latin typeface="Verdana"/>
                </a:rPr>
                <a:t>Aktivit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2f2f2"/>
                  </a:solidFill>
                  <a:latin typeface="Verdana"/>
                </a:rPr>
                <a:t>Jasmani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AutoShape 8"/>
          <p:cNvGrpSpPr/>
          <p:nvPr/>
        </p:nvGrpSpPr>
        <p:grpSpPr>
          <a:xfrm>
            <a:off x="285840" y="2766960"/>
            <a:ext cx="1251000" cy="598680"/>
            <a:chOff x="285840" y="2766960"/>
            <a:chExt cx="1251000" cy="598680"/>
          </a:xfrm>
        </p:grpSpPr>
        <p:pic>
          <p:nvPicPr>
            <p:cNvPr id="306" name="AutoShape 8" descr=""/>
            <p:cNvPicPr/>
            <p:nvPr/>
          </p:nvPicPr>
          <p:blipFill>
            <a:blip r:embed="rId3"/>
            <a:stretch/>
          </p:blipFill>
          <p:spPr>
            <a:xfrm>
              <a:off x="285840" y="2766960"/>
              <a:ext cx="1251000" cy="5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331920" y="2811600"/>
              <a:ext cx="116496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400" rIns="594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2f2f2"/>
                  </a:solidFill>
                  <a:latin typeface="Verdana"/>
                </a:rPr>
                <a:t>Sukan</a:t>
              </a:r>
              <a:r>
                <a:rPr b="1" lang="en-US" sz="1200" spc="-1" strike="noStrike">
                  <a:solidFill>
                    <a:srgbClr val="f2f2f2"/>
                  </a:solidFill>
                  <a:latin typeface="Verdan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AutoShape 9"/>
          <p:cNvGrpSpPr/>
          <p:nvPr/>
        </p:nvGrpSpPr>
        <p:grpSpPr>
          <a:xfrm>
            <a:off x="5467320" y="2786040"/>
            <a:ext cx="1324080" cy="579600"/>
            <a:chOff x="5467320" y="2786040"/>
            <a:chExt cx="1324080" cy="579600"/>
          </a:xfrm>
        </p:grpSpPr>
        <p:pic>
          <p:nvPicPr>
            <p:cNvPr id="309" name="AutoShape 9" descr=""/>
            <p:cNvPicPr/>
            <p:nvPr/>
          </p:nvPicPr>
          <p:blipFill>
            <a:blip r:embed="rId4"/>
            <a:stretch/>
          </p:blipFill>
          <p:spPr>
            <a:xfrm>
              <a:off x="5467320" y="2786040"/>
              <a:ext cx="132408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5513400" y="2828880"/>
              <a:ext cx="124128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400" rIns="594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2f2f2"/>
                  </a:solidFill>
                  <a:latin typeface="Verdana"/>
                </a:rPr>
                <a:t>Kesihat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AutoShape 10"/>
          <p:cNvGrpSpPr/>
          <p:nvPr/>
        </p:nvGrpSpPr>
        <p:grpSpPr>
          <a:xfrm>
            <a:off x="42840" y="3633840"/>
            <a:ext cx="1798560" cy="2711520"/>
            <a:chOff x="42840" y="3633840"/>
            <a:chExt cx="1798560" cy="2711520"/>
          </a:xfrm>
        </p:grpSpPr>
        <p:pic>
          <p:nvPicPr>
            <p:cNvPr id="312" name="AutoShape 10" descr=""/>
            <p:cNvPicPr/>
            <p:nvPr/>
          </p:nvPicPr>
          <p:blipFill>
            <a:blip r:embed="rId5"/>
            <a:stretch/>
          </p:blipFill>
          <p:spPr>
            <a:xfrm>
              <a:off x="42840" y="3633840"/>
              <a:ext cx="1798560" cy="271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154080" y="3743280"/>
              <a:ext cx="1581120" cy="24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Verdana"/>
                </a:rPr>
                <a:t>Penyertaan, penglibatan dan pencapaian Sukan dan Permain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400" spc="-1" strike="noStrike">
                  <a:solidFill>
                    <a:srgbClr val="000000"/>
                  </a:solidFill>
                  <a:latin typeface="Verdana"/>
                </a:rPr>
                <a:t>di peringkat sekolah, daerah, negeri, negara dan antarabang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AutoShape 11"/>
          <p:cNvGrpSpPr/>
          <p:nvPr/>
        </p:nvGrpSpPr>
        <p:grpSpPr>
          <a:xfrm>
            <a:off x="3402000" y="3621240"/>
            <a:ext cx="2103480" cy="2266920"/>
            <a:chOff x="3402000" y="3621240"/>
            <a:chExt cx="2103480" cy="2266920"/>
          </a:xfrm>
        </p:grpSpPr>
        <p:pic>
          <p:nvPicPr>
            <p:cNvPr id="315" name="AutoShape 11" descr=""/>
            <p:cNvPicPr/>
            <p:nvPr/>
          </p:nvPicPr>
          <p:blipFill>
            <a:blip r:embed="rId6"/>
            <a:stretch/>
          </p:blipFill>
          <p:spPr>
            <a:xfrm>
              <a:off x="3402000" y="3621240"/>
              <a:ext cx="2103480" cy="22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3529080" y="3745080"/>
              <a:ext cx="1857240" cy="20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000000"/>
                  </a:solidFill>
                  <a:latin typeface="Verdana"/>
                </a:rPr>
                <a:t>Penyertaan, penglibatan dan pencapai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000000"/>
                  </a:solidFill>
                  <a:latin typeface="Verdana"/>
                </a:rPr>
                <a:t>Kelab, Persatuan, Pakaian Beruniform di peringkat sekolah, daerah, negeri, negara dan antarabang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AutoShape 12"/>
          <p:cNvGrpSpPr/>
          <p:nvPr/>
        </p:nvGrpSpPr>
        <p:grpSpPr>
          <a:xfrm>
            <a:off x="1878120" y="3633840"/>
            <a:ext cx="1468440" cy="1949400"/>
            <a:chOff x="1878120" y="3633840"/>
            <a:chExt cx="1468440" cy="1949400"/>
          </a:xfrm>
        </p:grpSpPr>
        <p:pic>
          <p:nvPicPr>
            <p:cNvPr id="318" name="AutoShape 12" descr=""/>
            <p:cNvPicPr/>
            <p:nvPr/>
          </p:nvPicPr>
          <p:blipFill>
            <a:blip r:embed="rId7"/>
            <a:stretch/>
          </p:blipFill>
          <p:spPr>
            <a:xfrm>
              <a:off x="1878120" y="3633840"/>
              <a:ext cx="1468440" cy="19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1974960" y="3726000"/>
              <a:ext cx="1285920" cy="17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ctr">
              <a:noAutofit/>
            </a:bodyPr>
            <a:p>
              <a:pPr marL="87480" indent="-87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Standard Kecergasan Fizikal Kebangsaan (SEGAK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7480" indent="-87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AutoShape 13"/>
          <p:cNvGrpSpPr/>
          <p:nvPr/>
        </p:nvGrpSpPr>
        <p:grpSpPr>
          <a:xfrm>
            <a:off x="5578560" y="3633840"/>
            <a:ext cx="1376280" cy="2023920"/>
            <a:chOff x="5578560" y="3633840"/>
            <a:chExt cx="1376280" cy="2023920"/>
          </a:xfrm>
        </p:grpSpPr>
        <p:pic>
          <p:nvPicPr>
            <p:cNvPr id="321" name="AutoShape 13" descr=""/>
            <p:cNvPicPr/>
            <p:nvPr/>
          </p:nvPicPr>
          <p:blipFill>
            <a:blip r:embed="rId8"/>
            <a:stretch/>
          </p:blipFill>
          <p:spPr>
            <a:xfrm>
              <a:off x="5578560" y="3633840"/>
              <a:ext cx="1376280" cy="20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5667480" y="3720960"/>
              <a:ext cx="1201680" cy="185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ctr">
              <a:noAutofit/>
            </a:bodyPr>
            <a:p>
              <a:pPr lvl="1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Penjagaan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</a:t>
              </a:r>
              <a:r>
                <a:rPr b="1" lang="sv-SE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Kesihat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Di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Kebersih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Amal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 </a:t>
              </a:r>
              <a:r>
                <a:rPr b="1" lang="sv-SE" sz="12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BM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AutoShape 14"/>
          <p:cNvGrpSpPr/>
          <p:nvPr/>
        </p:nvGrpSpPr>
        <p:grpSpPr>
          <a:xfrm>
            <a:off x="7016760" y="3657600"/>
            <a:ext cx="1994040" cy="1085760"/>
            <a:chOff x="7016760" y="3657600"/>
            <a:chExt cx="1994040" cy="1085760"/>
          </a:xfrm>
        </p:grpSpPr>
        <p:pic>
          <p:nvPicPr>
            <p:cNvPr id="324" name="AutoShape 14" descr=""/>
            <p:cNvPicPr/>
            <p:nvPr/>
          </p:nvPicPr>
          <p:blipFill>
            <a:blip r:embed="rId9"/>
            <a:stretch/>
          </p:blipFill>
          <p:spPr>
            <a:xfrm>
              <a:off x="7016760" y="3657600"/>
              <a:ext cx="199404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7093080" y="3730680"/>
              <a:ext cx="1847880" cy="9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9400" rIns="594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v-SE" sz="1200" spc="-1" strike="noStrike">
                  <a:solidFill>
                    <a:srgbClr val="000000"/>
                  </a:solidFill>
                  <a:latin typeface="Verdana"/>
                </a:rPr>
                <a:t>Penyertaan dan penglibatan secara sukarela di sekolah atau di luar sekola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Straight Connector 47"/>
          <p:cNvSpPr/>
          <p:nvPr/>
        </p:nvSpPr>
        <p:spPr>
          <a:xfrm>
            <a:off x="914400" y="2565360"/>
            <a:ext cx="6970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60"/>
          <p:cNvSpPr/>
          <p:nvPr/>
        </p:nvSpPr>
        <p:spPr>
          <a:xfrm>
            <a:off x="914400" y="2529000"/>
            <a:ext cx="0" cy="255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traight Connector 61"/>
          <p:cNvSpPr/>
          <p:nvPr/>
        </p:nvSpPr>
        <p:spPr>
          <a:xfrm>
            <a:off x="2590920" y="2565360"/>
            <a:ext cx="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62"/>
          <p:cNvSpPr/>
          <p:nvPr/>
        </p:nvSpPr>
        <p:spPr>
          <a:xfrm>
            <a:off x="4419720" y="2565360"/>
            <a:ext cx="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traight Connector 63"/>
          <p:cNvSpPr/>
          <p:nvPr/>
        </p:nvSpPr>
        <p:spPr>
          <a:xfrm>
            <a:off x="6172200" y="2565360"/>
            <a:ext cx="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AutoShape 5"/>
          <p:cNvGrpSpPr/>
          <p:nvPr/>
        </p:nvGrpSpPr>
        <p:grpSpPr>
          <a:xfrm>
            <a:off x="6918480" y="2762280"/>
            <a:ext cx="2085840" cy="603360"/>
            <a:chOff x="6918480" y="2762280"/>
            <a:chExt cx="2085840" cy="603360"/>
          </a:xfrm>
        </p:grpSpPr>
        <p:pic>
          <p:nvPicPr>
            <p:cNvPr id="332" name="AutoShape 5" descr=""/>
            <p:cNvPicPr/>
            <p:nvPr/>
          </p:nvPicPr>
          <p:blipFill>
            <a:blip r:embed="rId10"/>
            <a:stretch/>
          </p:blipFill>
          <p:spPr>
            <a:xfrm>
              <a:off x="6918480" y="2762280"/>
              <a:ext cx="208584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6962760" y="2808360"/>
              <a:ext cx="200016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9400" rIns="594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2f2f2"/>
                  </a:solidFill>
                  <a:latin typeface="Verdana"/>
                </a:rPr>
                <a:t>Aktiviti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2f2f2"/>
                  </a:solidFill>
                  <a:latin typeface="Verdana"/>
                </a:rPr>
                <a:t>Ekstra Kurikul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4" name="Picture 18" descr="kpm2006"/>
          <p:cNvPicPr/>
          <p:nvPr/>
        </p:nvPicPr>
        <p:blipFill>
          <a:blip r:embed="rId11"/>
          <a:stretch/>
        </p:blipFill>
        <p:spPr>
          <a:xfrm>
            <a:off x="8096400" y="5951520"/>
            <a:ext cx="895320" cy="90648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838080" y="1143000"/>
            <a:ext cx="6934320" cy="11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Arial"/>
              </a:rPr>
              <a:t>Pentaksiran Aktiviti Jasmani, Sukan &amp; Kokurikulum (PAJ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08:07:39Z</dcterms:created>
  <dc:creator>User</dc:creator>
  <dc:description/>
  <dc:language>en-US</dc:language>
  <cp:lastModifiedBy>User</cp:lastModifiedBy>
  <dcterms:modified xsi:type="dcterms:W3CDTF">2011-06-08T00:54:35Z</dcterms:modified>
  <cp:revision>43</cp:revision>
  <dc:subject/>
  <dc:title>Slide 1</dc:title>
</cp:coreProperties>
</file>