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06B-955B-43AE-AC08-00181F9C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63A-19D7-44B4-B42B-C9970D9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DBC-D4EA-495A-876F-E9B13B8A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AA4-DE66-4158-9D21-B09E57AC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0D4-A5D5-4E41-9BFA-8972B244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5D5-BEA6-4C76-A2EB-9A35A8C0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F97-7D9C-45A5-BC82-00C68A14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58F-F0DF-47B0-A63B-A4E3EB8A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CF7-C7AB-46CF-BED6-B057D018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A67-F9AC-4606-B900-24475D6F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FBB-132A-41D1-BD11-9A6C0BE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5392-2A85-4B1A-97C9-03D0D5EA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E6FD-3269-439F-84FA-6F1A308150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0320" y="81000"/>
            <a:ext cx="82756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72784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3080" y="907920"/>
            <a:ext cx="869292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9440" y="189000"/>
            <a:ext cx="865656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844056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0160" y="333360"/>
            <a:ext cx="88358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990720"/>
            <a:ext cx="88362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87256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312840"/>
            <a:ext cx="87487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262080"/>
            <a:ext cx="83534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856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89344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240" y="101520"/>
            <a:ext cx="8132760" cy="671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1040" y="44280"/>
            <a:ext cx="8238960" cy="67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9040" y="44280"/>
            <a:ext cx="827568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9:24:45Z</dcterms:created>
  <dc:creator>雨林木风</dc:creator>
  <dc:description/>
  <dc:language>en-US</dc:language>
  <cp:lastModifiedBy>雨林木风</cp:lastModifiedBy>
  <dcterms:modified xsi:type="dcterms:W3CDTF">2010-11-10T09:32:49Z</dcterms:modified>
  <cp:revision>16</cp:revision>
  <dc:subject/>
  <dc:title>幻灯片 1</dc:title>
</cp:coreProperties>
</file>