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E7E-99CB-4E9E-B18C-B6EE13F8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565-A30A-4D6D-87BF-DA19C24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EF3-7CA3-41A7-943A-5A1023C9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87A-EEE7-4ADE-A02F-6B136CD4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007-1933-4C9E-9AF9-7B25AE4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5CF-3097-4072-9A49-CF2EB1E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81F-815C-412A-9C3F-0536988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AD1-3FE2-40B7-B7A3-867D8D21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CC4-FEF1-4F0E-9A64-0EBCD970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524-1186-4ADE-B81F-37878FE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83F-587B-4E90-906E-715EA5F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A64-7216-4728-9E34-D869DD5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A2F-E655-42D7-BB2F-FD2E26D2C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48196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5760" y="1085760"/>
            <a:ext cx="8804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9000" y="1087560"/>
            <a:ext cx="88041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5120" y="1084320"/>
            <a:ext cx="87980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5120" y="1085760"/>
            <a:ext cx="87994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5120" y="1082520"/>
            <a:ext cx="87994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85760" y="1089000"/>
            <a:ext cx="8802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5120" y="40968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5120" y="960480"/>
            <a:ext cx="8796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85760" y="1084320"/>
            <a:ext cx="88059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3680" y="1079640"/>
            <a:ext cx="8802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5760" y="1089000"/>
            <a:ext cx="8800920" cy="491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5760" y="1087560"/>
            <a:ext cx="88059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1082520"/>
            <a:ext cx="88009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5760" y="1085760"/>
            <a:ext cx="8800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5120" y="1082520"/>
            <a:ext cx="8798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084320"/>
            <a:ext cx="8805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5120" y="533520"/>
            <a:ext cx="879660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5760" y="1085760"/>
            <a:ext cx="880416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07:11:09Z</dcterms:created>
  <dc:creator>1</dc:creator>
  <dc:description/>
  <dc:language>en-US</dc:language>
  <cp:lastModifiedBy>1</cp:lastModifiedBy>
  <dcterms:modified xsi:type="dcterms:W3CDTF">2010-12-01T07:29:16Z</dcterms:modified>
  <cp:revision>21</cp:revision>
  <dc:subject/>
  <dc:title>Slide 1</dc:title>
</cp:coreProperties>
</file>